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A8D-63AC-4D7B-A0A8-5D9D1135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78A-F590-4FF1-ACCA-0D03172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8DC-89E7-438B-802A-5223329F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EDC-71A5-4476-A6B9-EF82798A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516-F756-4FBE-9611-582175B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9CE-7583-45C8-9F32-EDBBDAD7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83B-DEFE-43FF-8C2B-0E9D1A0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8E-3E14-4FBF-BBDF-A1BA0E24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F27-9CA7-4CF5-A5A5-804F856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39A-99DA-400C-8501-FB191DC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3DB-30DA-4EE7-A2C6-537538B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139-8332-46B7-8C34-B86D90F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A2E-C0B7-4205-A992-C603C0E1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157-6EFB-4D49-974B-EE5C4757CB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Small multiples, or the science and art of combining graph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icholas J. C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partment of 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urham University,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logounidurham-new"/>
          <p:cNvPicPr/>
          <p:nvPr/>
        </p:nvPicPr>
        <p:blipFill>
          <a:blip r:embed="rId1"/>
          <a:stretch/>
        </p:blipFill>
        <p:spPr>
          <a:xfrm>
            <a:off x="6732720" y="6021360"/>
            <a:ext cx="133344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8D0-E484-4C79-A7DE-A8AF63FBDE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131-5852-4A08-B59D-F72E28F511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What are we doing here?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The problem of time series 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mparisons of time series are a rich and challenging area of statistical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widespread term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spaghetti plot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ints immediately at the difficul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always, we want to combine a grasp of general patterns with access to individual det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this in mind, we look at som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of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Grunfeld datas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28A-3EA1-4253-A90C-9FD4F6B03E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40F-4C92-48BD-8D0B-5A9757388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244-8D4F-41FF-AB7C-80C3C4DF44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300-2007-4010-864F-E198CA5A3F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2A7-368F-41FE-8F06-F3D1B77354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7D8-4F6B-4293-A023-1403DFBEFF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6F5-94FE-4193-8FE8-EAD0BEFEC1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ertical and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stacks small graphs vertic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f several graphs are combined, it is typical to cut down on axis labels and rely on differences in shape to convey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orizontal stacking is also supported, which can be useful for archaeological or environmental problems focused on variations with depth or he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is an archaeological dataset as exam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2F5-3F79-492D-9ECD-B44A053B03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7556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D23-E0C3-498B-977F-43600C0D5C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1F9-FDBB-4E1C-B809-2381CA0815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Nightingale’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lorence Nightingale (1820–1910) is well remembered for her nursing in the Crimean war and (within statistical science) for use of quantitative arg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 most celebrated dataset is often reproduced using her polar diagram, but is easier to think about as time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Zymotic (loosely, infectious) disease mortality dominates other kinds, so much so that a square root scale helps comparison. (A logarithmic scale over-transforms here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53D-E8A9-4278-A1D2-C6D899E665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" y="189000"/>
            <a:ext cx="8888400" cy="59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47C-D221-439F-B0D4-E41D0A290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urce of im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ttp://understandinguncertainty.org/coxco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B24-A5AE-4907-BDE1-2B3029B12E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93A0-2B84-431B-AB8D-91BB02D471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06F-9EC7-4B2C-80D9-95D28EB62F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mall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ood graphics often exploit one simple design that is repeated for different parts of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dward Tufte called this the use of small multi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ll-designed small multiples are inevitably comparative, deftly multivariate,  shrunken, high-density graphics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dward Rolf Tufte (1942–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529-9CA8-4905-AF70-3BF72F192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FD2-8AE5-4325-B179-E7688AC74D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C20-A9E7-43EC-A6FA-67FBE7AEC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2B32-9923-48FA-9437-7AA1D49475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Would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display is useful to show relative shape, such as times of pea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see that seasonality is only part of what is being se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harsh winter of 1854–5 coincided with some of the hardest battles of the war, but 1855–6 was quite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, as often happens, no one graph dominat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83C-7951-4179-8123-AE3D7A3D3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C4A-5F83-45F5-A3F2-0E3C4C741F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477-D865-4AF7-80CC-3EA086CC46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catter plot is the workhorse of statistical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John McKinley Chambers (1941–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1F1-8C32-47A7-87EA-12BF7A13A9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designed as a quick-and-easy way to combine scatter p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basic syntax i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(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varlis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) (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varlis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nd the idea is to plot every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gainst every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use of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gives greater flexibility than doe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matrix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which produces every possible scatter plot for a singl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BC0-6144-4F6F-B7E1-E86791E58A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catter plot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catter plot matrices are great, but they can be exces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ir main feature is also a lim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variables mean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plots all at once, so 10 means 100, and so fo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Th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half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 just controls which plots you see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73A-9CF4-4FA0-B432-0DDF6C1528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as developed in teaching, especially of regression, with the aim of encouraging focused compari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iginally (1999)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was calle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pyx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eaning Cartesian product, but the name was ugly, cryptic and easily forgo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yntax had to be as simple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6F0-D384-4D10-8344-74A5A450E9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ions of a response variable versus a key predi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response variable versus versions of a key predicto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ach output versus each in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incipal components versus original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irst, let us look at four versions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pg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u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eigh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the auto data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007-A89F-4787-88EF-04B1D58090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08C-BD11-4B91-BA33-273C6833DC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ext we look at an audiometric dataset used as a multivariate example in the Stata manu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re are 8 response variables, 4 for left ears and 4 for right ears. Here we just focus on the 16 plots  pairing left and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other graph could be the 4 plots comparing left and right ears at the same frequency, the diagonal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E88-5827-4C0F-BFD7-DEF29CCF63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in St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Stata, small multiples are supported for different subsets of the data with 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by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 or 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over()</a:t>
            </a: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s of many graph comma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rs can emulate this in their own programs by writing wrapper programs that call 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owa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 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 and its sibl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therwise, specific machinery offers repetition of a design for different variables, such as th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matrix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mmand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D08-3E9E-4ADD-8D69-34FACFB6E5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AE7-98B8-4010-9D98-6DE96F1673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yntax for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 (mpg rt_mpg ln_mpg rec_mpg) weight, combine(imargin(smal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 (lft*) (rght*), jitter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DAB-177A-406E-8EE6-69CF62B3CF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 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just call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scatter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ollowed by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graph com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follows tha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recast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available to recast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connecte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as an extr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quence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ption to label graphs to ease preparation of graphics for pap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quence(a b c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3D6-918A-4C9E-A9EA-9A2233659E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reatest value of a picture is when it forces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notice what we never expected to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John Wilder Tukey (1915–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AC7-161F-488B-8659-5D34935E44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a generalisation of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cross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more flexible and inevitably more complicated in synt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eneral problem of combining plots of similar kind reduces to a loop producing individual plots and a call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That is bound to be a challenge to beginning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idea is to avoid that by encapsulating the predictable syntax within one comm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113-89FB-44A9-A351-52E7A67BFA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will look at a series of univariate examples followed by a series of bivari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great variety is possible, as we can loop over user-written graphics commands as well as official comma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8FE-4E89-4413-A523-7B79949E68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639-D554-4EEF-84A8-66861AA9A1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8DE-FE65-49D1-81F7-DB4211F5E8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601-4154-4F87-BA8F-98913C39B2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493-4A4C-4DDD-84BC-CBD43D39EA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rs can always put together their own composite graphs by saving individual graphs and then combining them us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presentation offers further modest automation of the same design repeated for differen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7D0-AC3E-4880-9982-50D41206C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A1E-0809-4531-A97C-41F3E45014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digression on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last example u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 program automating separation of data points on a scatter plot by a categorical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repetition of the legend needs some kind of fix. In this and similar examples,  the legend could be deleted and explaining symbols left as a task for the text cap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DAB-47B2-4D01-B53B-F4FC3E6F31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sepscatter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catter plot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eets a felt need, scatter plot matrices with categorisation of data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is an example with “size” variables from the auto dataset. The diagonal scatter plots have meaning, yet are not conventional. But not every graph need be immediately publish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583-FCE5-4D74-B103-3ACA81C435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E87-7DF0-4FA9-9300-D747BDAB67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7556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D84-9D54-45A5-95EF-F2F5EDAF9B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digression on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aa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last example used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aapl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aa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stomises automatic annotation of scatter plots with fitted regressions with text for key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iginally, it was written following a request by my Ph.D. student Alona Armstr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8C9-BFD5-4425-B970-C92967394D0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ack t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examples of its syntax will make clearer how it works. First look at a univariate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mpg price weight headroom: graph box @y, over(rep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have on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the synt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a placeholder for the variable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D50-6CD0-47CD-9311-2C00670908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ext look at a bivariate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price (mpg weight length displacement): sepscatter @y @x, ytitle("Price (USD)") sep(foreig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have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the syntax elements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x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e placeholders for the variable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54B-E241-4F93-A2FA-EB7E430C48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may each contain a single variable and they may b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en both are presented, the combination is the Cartesian product of th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aturally, you can reach through to control the options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s well  as those of the particular graph command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477-D588-4BDE-80A5-23F2D98608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Quirk or qui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quirky syntax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ight cause some queasi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might recall the obsolet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comm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fident users would (should) be happy to write their own loops, topped b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nd that is fine t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justification f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just convenience: it can be quicker than writing your own scrip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A6B-E2A0-47C9-8E88-4CA0A8DB53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C82-7659-49E4-92AF-A015A30284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Original programs discussed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with cameo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a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psc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 may be installed from SS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237-E24A-4CE3-A778-0F16D02E6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al life is both complicated and sho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we make no mockery of honest adhock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rving John Good (1916–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653-E1AA-440D-B55D-ADDA0AC49D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more than anywhere arbitrariness of names can b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f you have use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-Plus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uch, you may have come across “design plot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 as implemented there they do  not look much like the graphs you are going to see. Nor are they plots showing fitted results; nor do they imply experimental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understan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we need to creep up on it step by ste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958-C579-4C9E-801E-032294B7E1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BAD-9FC9-48B7-B4EB-549E198401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16E-659D-44EC-9621-950393C971C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inimal syntax specifies a response first, then one or more predic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predictors should in practice be categorical, meaning taking on only a small or moderate number of distinct levels (“factors”, if you lik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examples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 mpg rep7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 mpg rep78 fore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80E-99A4-4191-8C21-486FDD1871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tatistics shown are m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iven one, two, … predictors, the means are shown for all the data, each one-way breakdown, each two-way breakdown,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uses a syntax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a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being 0, 1, 2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the default vehi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tats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underpins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essence, we can get a multiscale breakd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actice, we might want to restrict what is show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66-EB0B-4EA2-8217-FB3B889B32B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3E9-43A9-4387-B442-21B353263E5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Restricting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we restricted the scop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signplot mpg foreign rep78,  maxway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et us look at a different dataset. The response variable for these data on the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Titanic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is a binary variabl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urvive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so its mean is the fraction surv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 restrict using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xway(2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1BE-A34E-4532-9545-9D896D0C0C9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24000" y="295200"/>
            <a:ext cx="5192640" cy="65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D0A-E950-466E-B047-8BAFE36C878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 we have 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verall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ne-way breakdowns for three predic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wo-way breakdowns for comb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674-7ADD-458B-8757-D7CD553B58D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What’s in a name?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rose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by any other na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minor theme here is that definite names are needed for programs, even if kinds of graphs do not have distinct agreed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in advertising, a good name attracts and keeps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in politics, a bad name can be fatal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AA1-DD7B-4990-8EA4-AB6CBF921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kind of graph is for detailed scrutiny, rather than delivering sh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ogically similar displays are often used for reporting opinion poll or electoral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562-1311-42CD-9D2E-9688DEC6E34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hat reminds us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tructure echoes analysis of variance, used descrip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imilar ideas appear in ANOVA and other literature going back to J.W. Tukey in 197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also echoes the little used official comm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lso shows m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Medians are allow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allows one-way breakdowns on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8CA-43B0-4952-9074-9D847EFE1A5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F1D-8F42-4B13-B38D-804FB806D1D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E96-B8CB-4DB3-B9E5-809902C8823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these examples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shows different means distinctly, but that is not guarante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s a default  withi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ensures more readability, although that too has its lim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3E7-5443-42BC-B913-41349D3608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can show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other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You can show an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ummariz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res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actice, you would only want to plot results sharing the same units of measurement (including none at all, as with skewness and kurtos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1C5-71A2-4A18-BB36-05FFEEBD661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C15-3257-4366-9F9E-5B4DEBE12D0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re to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though based o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can be recast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h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though based on summarizing single variables, what could be simpler than putting differen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side-by-si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A24-85B7-4604-8814-FC62E468DFE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FB2-A1BB-4288-9363-5D1CD403EA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s this just a reinventio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its siblings are restricted in offering only one-way or two-way  or three-way breakdowns given, respectively, one or two or three “facto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ives scope for saving results for separate graphing or tabu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770-2801-44EC-8A55-4862600E845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purpose of visualization is insight, not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n Shneiderman (1947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0B3-190D-404C-BD62-D0E35A823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3F2C-E2B2-4E44-BCF1-876B2057B6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main players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 may be installed from SS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ur attraction to images as a source of understa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both primal and perva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tephen Ja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uld (1941–200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F41-BAF3-4B46-B5C9-464B50CECF8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5D40-50D4-417B-B3B6-F6186037BB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parklines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name “sparkline”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as suggested by Edward Tufte for intense text-like graphic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arklines are typically simple in design, sparing of space and rich in data, but they include several quite different kinds of graph other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most common kind shows several time series stacked vertic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a Stata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A94-8159-464F-8704-949FF4F65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arklines have long been standard in  several fields, including physics and chemistry (spectros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y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seismology, climatology, ecology, archaeology and physiology (notably encephalography and cardiography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ufte provided an memorable and evocative new name and an excellent provocative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runfeld data (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ebuse grunfel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are a classic dataset in panel-based economics.  Ten companies were monitored for 1935–54.  They give us a simple sandp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488-25B4-4262-BEEF-B00560997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54:52Z</dcterms:created>
  <dc:creator>Irene Cox</dc:creator>
  <dc:description/>
  <dc:language>en-US</dc:language>
  <cp:lastModifiedBy>Irene Cox</cp:lastModifiedBy>
  <dcterms:modified xsi:type="dcterms:W3CDTF">2014-07-20T10:28:11Z</dcterms:modified>
  <cp:revision>15</cp:revision>
  <dc:subject/>
  <dc:title>Slide 1</dc:title>
</cp:coreProperties>
</file>