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 Rounded MT Bold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0C7A-1E6A-4A4A-84C5-53BB708A35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pexamp.gph, taken from c38\fig1a.g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what data looks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replicate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people might choose to put all variables sig at 5% into multivariabl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te non-monotonicity of x5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subset comprised 60.1% of r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are when variable was se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1.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functional relationship is probably simple, but linear fits ba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how FP function smooths out complex, implausible irregularities in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36D-6F62-4E53-85E8-C838A5B2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741-80E9-419F-89B0-14977921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9D9-D210-4EF3-BD0E-91399899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F024-F6E4-457F-85E9-FF2E2603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5F88-6EA9-4B77-89E0-B4E61DCB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63D7-F23A-4BC8-8DC6-BDB40C58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9C94-C284-455C-94CD-06199264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B98C-3AE4-44D9-A7D3-49B49995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61A9-43B7-492F-BF4D-DDBB0FA7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F812-4A01-4132-8B80-04285EFA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AF6B-014B-46FC-B133-B1E7D2C7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E19-591F-40BA-A695-A8CD029C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7F07-E70A-4AB3-961D-176F2561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D5F7-394B-447A-AC95-A23C4B45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3D85-06D9-41E5-9E9A-C8246B2B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8C55-0197-4B42-93E9-0756EEED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19F7-5241-4C2A-B109-55391123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22C-E8B5-4EF0-85ED-8C9B757C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336-9464-4130-8A07-7922BBD9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AC1-13A7-423A-BA27-043CCD27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65E-2694-43EA-855A-0EE3FAB1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4CC-E38C-4A00-A0C0-CE4F0054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192A-4660-4457-9FFA-FB12942E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9DB-405D-40F9-9681-C720981E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BD92-4DAD-4D39-A549-441E729D8A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8E97-1DC4-43EC-BDA8-758B434EEE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53352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 Rounded MT Bold"/>
              </a:rPr>
              <a:t>Multivariable regression models with continuous covariate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996633"/>
                </a:solidFill>
                <a:latin typeface="Arial Rounded MT Bold"/>
              </a:rPr>
              <a:t>with a practical emphasis on fractional polynomials and applications in clinical epidemiology</a:t>
            </a:r>
            <a:endParaRPr b="0" lang="en-US" sz="28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23960" y="380952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fessor Patrick Royston,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RC Clinical Trials Unit, London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erlin, April 2005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FB08-F90B-4C05-9EFA-CC634B6DB5C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Empirical curve fitting: Aim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ise relationship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nd/or suggest function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744-67D4-4384-961D-D8F6E402510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Some approache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2760" y="1676520"/>
            <a:ext cx="81784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parametric’ (local-influence)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ly weighted (kernel) fits (e.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w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 sp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ing splines (used in generalized additive mod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ric (non-local influence)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linear cu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ctional poly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ediate between polynomials and non-linear cur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6362-4F02-49CB-B822-EDCEFF232F0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Local regression model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2760" y="1676520"/>
            <a:ext cx="8178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 – because loc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veal ‘true’ curve shape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table – because loca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cise form fo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fore, hard for others to use – publication,compare results with those from other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ves not necessarily sm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box’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approaches – which one(s)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551-4D91-472B-8DB2-7957C5D8246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Polynomial model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have the disadvantages of local regression models, but do have oth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flexibility (low or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facts in fitted curves (high or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have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AE4-D4F3-4969-835B-36835F6B4ED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Fractional polynomial model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for one covariat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regression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ional polynomial of deg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ower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iven b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 baseline="-6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+ … +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GB" sz="2800" spc="-1" strike="noStrike" baseline="-60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aken from a special 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5, 0, 0.5, 1, 2, 3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 is sufficient for a good 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DC6-F23A-49E5-A7C7-077D8FD4164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FP1 and FP2 model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P1 models are simple power 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P2 models are combinations of 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‘repeated powers’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215-4881-4F45-9AEF-498D22762F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FP1 and FP2 models: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some propertie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useful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ariety of features are avail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to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ave asympt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monotonic (single maximum or minimu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turning-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better fit than with conventional polynomials, even of higher de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7A5-2C8A-4858-A40F-B5749BC272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Examples of FP2 curves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- varying power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0440" y="1143000"/>
            <a:ext cx="822636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F92-52A9-43EA-B526-4570E0FAA7D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Examples of FP2 curves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- single power, different coefficient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pic>
        <p:nvPicPr>
          <p:cNvPr id="124" name="frac4" descr=""/>
          <p:cNvPicPr/>
          <p:nvPr/>
        </p:nvPicPr>
        <p:blipFill>
          <a:blip r:embed="rId1"/>
          <a:stretch/>
        </p:blipFill>
        <p:spPr>
          <a:xfrm>
            <a:off x="1079640" y="1619280"/>
            <a:ext cx="6970680" cy="46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6DC-6861-4293-948A-0C28869FDEE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A philosophy of function selection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simple (linear)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ore complex (non-linear) FP1 or FP2 model if indicated by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st to local regression mod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ready starts with a complex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5B1-F825-4D50-832A-30E8871CC0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The problem …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92" name=""/>
          <p:cNvSpPr/>
          <p:nvPr/>
        </p:nvSpPr>
        <p:spPr>
          <a:xfrm>
            <a:off x="495360" y="1752480"/>
            <a:ext cx="815328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ying epidemiologic risk factors using non-parametric regression: model selection remains the greatest challeng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senberg PS et al, Statistics in Medicine 2003; 22:3369-33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vial nowadays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most an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o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good model is much ha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2FD-51EF-48AF-83E6-0A6DCFCD73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Estimation and significance testing for FP model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t model with each combination of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P1: 8 single p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P2: 36 combinations of po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model with lowest deviance (M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ng F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FP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deviance differenc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2 d.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d.f. for power, 1 d.f. for regression co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ed by simulations; slightly conser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730-FD09-46FC-A39D-D6DE9DAE0DC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Selection of FP function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flavour of a closed test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roximations to get P-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nominal P-value for all tests (often 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t linear and best FP1 and FP2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P2 vs. nu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st of any effec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4 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P2 vs line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st of non-linearity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3 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P2 vs FP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st of more complex function against simpler on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2 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37A-5AF3-4940-A193-C414A697FD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Example: Systolic BP and age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303200" y="1828800"/>
          <a:ext cx="653760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1828800"/>
                    <a:ext cx="653760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409760" y="4267080"/>
            <a:ext cx="63244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min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P1 had power 3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P2 had powers (1,1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170-2C25-4978-9B7C-2612269687CF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Aside: FP versus spline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care about FPs when splines are more flex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flexible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ore un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chance of ‘over-fitting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epidemiology, dose-response relationships are often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llustrate by small simulati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DCA-1116-411F-B28A-097FAB2953F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FP versus spline (continued)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arithmic relationships are common in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e regression mod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is normally distributed N(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lognormal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1, 0.5, 0.25, 0.125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t FP1, FP2 and spline with 2, 4, 6 d.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mean squar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with mean square error for tru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E25-DB3C-4454-B0C9-4CEDBF6F02B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FP vs. spline (continued)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pic>
        <p:nvPicPr>
          <p:cNvPr id="140" name="simln0" descr=""/>
          <p:cNvPicPr/>
          <p:nvPr/>
        </p:nvPicPr>
        <p:blipFill>
          <a:blip r:embed="rId1"/>
          <a:stretch/>
        </p:blipFill>
        <p:spPr>
          <a:xfrm>
            <a:off x="1378080" y="1676520"/>
            <a:ext cx="63878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46C-2CB2-4C8F-AE3D-3E628936D124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FP vs. spline (continued)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pic>
        <p:nvPicPr>
          <p:cNvPr id="142" name="simln1" descr=""/>
          <p:cNvPicPr/>
          <p:nvPr/>
        </p:nvPicPr>
        <p:blipFill>
          <a:blip r:embed="rId1"/>
          <a:stretch/>
        </p:blipFill>
        <p:spPr>
          <a:xfrm>
            <a:off x="1378080" y="1752480"/>
            <a:ext cx="63878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17B9-64CF-4001-955E-47CCC52AA76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FP vs. spline (continued)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pic>
        <p:nvPicPr>
          <p:cNvPr id="144" name="simln1a" descr=""/>
          <p:cNvPicPr/>
          <p:nvPr/>
        </p:nvPicPr>
        <p:blipFill>
          <a:blip r:embed="rId1"/>
          <a:stretch/>
        </p:blipFill>
        <p:spPr>
          <a:xfrm>
            <a:off x="1378080" y="1752480"/>
            <a:ext cx="63878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8AA-FE17-4987-945B-501CACF4656A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FP vs. spline (continued)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pic>
        <p:nvPicPr>
          <p:cNvPr id="146" name="simln2" descr=""/>
          <p:cNvPicPr/>
          <p:nvPr/>
        </p:nvPicPr>
        <p:blipFill>
          <a:blip r:embed="rId1"/>
          <a:stretch/>
        </p:blipFill>
        <p:spPr>
          <a:xfrm>
            <a:off x="1378080" y="1676520"/>
            <a:ext cx="63878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1C2E-06A1-4D81-BD76-63F2EC5CC9FB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FP vs. spline (continued)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this example, spline usually less accurate than 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P2 less accurate than FP1 (over-fit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P1 and FP2 more accurate than sp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lines often had non-monotonic fitted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uld be medically implau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course, this is a special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D74-6A3B-4E8B-85DB-557D6C74C3E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Overview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ext and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roduction to fractional polynomials for the univariate smoothing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tension to multivariabl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on splin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bility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a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0FA-0634-4808-A2B6-1BEB18B810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Multivariable FP (MFP) model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sume hav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1 continuous covariates and perhaps some categoric or binary covari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ow dropping of non-significant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sh to find best multivariable FP model for all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ractical to try all combinations of p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quire iterative fitting 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B3C-C580-403B-87D7-A079EB65647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Fitting multivariable FP models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(MFP algorithm)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backward elimination of weak variables with search for best FP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fitting order from linea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FP model selection procedure to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ing functions (but no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) for o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cle until FP functions (i.e. powers) and variables selected do not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045-23D0-42CE-9117-DE1B2ECAC92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Example: Prognostic factors in breast cancer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m to develop a prognostic index for risk of tumour recurrence or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7 prognostic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continuous, 3 catego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variables and functions using 5% significanc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85B-CD88-4977-BA8C-9EA182650BB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Univariate linear analysi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82760" y="1944720"/>
          <a:ext cx="14019120" cy="450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944720"/>
                    <a:ext cx="1401912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D24-609A-400B-98D0-3FD0315C4424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Univariate FP2 analysi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60" name=""/>
          <p:cNvSpPr/>
          <p:nvPr/>
        </p:nvSpPr>
        <p:spPr>
          <a:xfrm>
            <a:off x="620280" y="5105520"/>
            <a:ext cx="7158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in compares FP2 with linear on 3 d.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actors except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a non-linear eff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41360" y="2182680"/>
          <a:ext cx="12665160" cy="29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2182680"/>
                    <a:ext cx="1266516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BF2-F9D3-44F9-A9FD-B39C73A891C9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Multivariable FP analysi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5760" y="2146320"/>
          <a:ext cx="12503160" cy="485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2146320"/>
                    <a:ext cx="1250316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2D0-0381-48AA-8AAA-B720C35551DD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Comments on analysi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tional backwards elimination at 5% level selec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xclu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P analysis picks up same variables as backward elimination, and additional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considerable non-linearity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no linear influence on risk of recur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P model detects more structure in the data than the linear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FC9-9DA8-4AE3-A5E0-5D484635EAC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Plots of fitted FP function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pic>
        <p:nvPicPr>
          <p:cNvPr id="169" name="inn2" descr=""/>
          <p:cNvPicPr/>
          <p:nvPr/>
        </p:nvPicPr>
        <p:blipFill>
          <a:blip r:embed="rId1"/>
          <a:stretch/>
        </p:blipFill>
        <p:spPr>
          <a:xfrm>
            <a:off x="1378080" y="1752480"/>
            <a:ext cx="63878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C8B-901C-405F-A98B-6E59B277A4C6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Survival by risk group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pic>
        <p:nvPicPr>
          <p:cNvPr id="171" name="inn6" descr=""/>
          <p:cNvPicPr/>
          <p:nvPr/>
        </p:nvPicPr>
        <p:blipFill>
          <a:blip r:embed="rId1"/>
          <a:stretch/>
        </p:blipFill>
        <p:spPr>
          <a:xfrm>
            <a:off x="1378080" y="1752480"/>
            <a:ext cx="63878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351D-D1D9-4633-BCF8-3EA28F68A236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Robustness of FP function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st cancer example showed non-robust functions for nodes – not medically s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tuation can be improved by performing covariate transformation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FP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be done systematically (work in progr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uerbrei &amp; Royston (1999) used negative exponential transformation of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.12 * number of nod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39A-2B7F-480C-A4EC-98CEA6024209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Motivation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ten hav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isk factors in epidemiology and clinical studies – how to model th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near model may describe a dose-response relationship ba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ar’ = straight line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 + …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hroughout 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cut-points has several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lines recommended by some – but are not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ck a well-defined approach to model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ack box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bustness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37B-806E-41B4-9BFA-66E17164736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Making the function for lymph nodes more robust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pic>
        <p:nvPicPr>
          <p:cNvPr id="175" name="inn2a" descr=""/>
          <p:cNvPicPr/>
          <p:nvPr/>
        </p:nvPicPr>
        <p:blipFill>
          <a:blip r:embed="rId1"/>
          <a:stretch/>
        </p:blipFill>
        <p:spPr>
          <a:xfrm>
            <a:off x="1378080" y="1752480"/>
            <a:ext cx="63878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0F21-257C-4B7A-BF4B-9D050A02F2E9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2</a:t>
            </a:r>
            <a:r>
              <a:rPr b="0" lang="en-US" sz="4000" spc="-1" strike="noStrike" baseline="30000">
                <a:solidFill>
                  <a:srgbClr val="ff6600"/>
                </a:solidFill>
                <a:latin typeface="Arial Rounded MT Bold"/>
              </a:rPr>
              <a:t>nd</a:t>
            </a: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 example: Whitehall 1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MFP analysi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50920" y="1689120"/>
          <a:ext cx="5042160" cy="347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689120"/>
                    <a:ext cx="504216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257480" y="52578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variables were eliminated by the MFP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 is eliminated by linear backward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D3AF-5E7D-4A4D-88CC-7A11B19017FC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Plots of FP function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pic>
        <p:nvPicPr>
          <p:cNvPr id="181" name="inn5" descr=""/>
          <p:cNvPicPr/>
          <p:nvPr/>
        </p:nvPicPr>
        <p:blipFill>
          <a:blip r:embed="rId1"/>
          <a:stretch/>
        </p:blipFill>
        <p:spPr>
          <a:xfrm>
            <a:off x="1378080" y="1752480"/>
            <a:ext cx="63878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0CD-7504-49BF-8A4D-B7DEE0D57055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A new multivariable regression algorithm with spline function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2760" y="1447920"/>
            <a:ext cx="817848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pired by closed test procedure for selecting an FP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rt with predefined number of kn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ermines maximum complexity of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predetermined knot 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at fixed percentile positions of distn.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plest function (default) is 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osed test procedure to reduce the knot set if some knots are not signif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ly backfitting procedure as in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f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lemented in Stata as new command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mrsn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D6D-51DE-426C-B52D-15A39FF1BF5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Splines: Breast cancer example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lects variables similar t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m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ade 2/3 omitted, otherwise selected variables are iden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nots: age(46, 53); transformed nodes(linear); PgR(7, 13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viance of selected model almost identical t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mf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B5F-AD79-4269-B990-528EA72FE36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Plots of fitted FP function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pic>
        <p:nvPicPr>
          <p:cNvPr id="187" name="fpspline" descr=""/>
          <p:cNvPicPr/>
          <p:nvPr/>
        </p:nvPicPr>
        <p:blipFill>
          <a:blip r:embed="rId1"/>
          <a:stretch/>
        </p:blipFill>
        <p:spPr>
          <a:xfrm>
            <a:off x="1378080" y="1523880"/>
            <a:ext cx="63878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255-2B81-4773-9478-19A3F77FC1CD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Improving the robustness of spline model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ten have covariates with positively skew distributions – can produce curve artef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ple approach is to log-transform covariates with a skew distribution – e.g.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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gt; 0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n fit the splin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the breast cancer example, this approach gives a more satisfactory log function for P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A73-3947-48BE-B0CC-3C17BDB174A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Stability of FP model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(variables, FP functions) selected by statistical criteria – cut-off on P-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 has several advantage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lso is known to hav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ission 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table – many models may fit equal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4E8-AE66-4224-B550-586D5563E478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Stability investigation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tability may be studied by bootstrap resampling (sampling with replac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e bootstrap sampl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 model by chosen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 how many times each variable is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arise inclusion frequencies &amp; their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udy fitted functions for each cova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 lead to choosing several possible models, or a model different from the original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85C-F73B-4176-ADE5-858113C3548D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Bootstrap stability analysis of the breast cancer dataset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0 bootstrap samples taken (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FP algorithm with Cox model applied to each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ed in 1222 different models (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theless, could identify stable subset consisting of 60% of re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ged by similarity of functions se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510-6399-4C35-8291-E320770EA05A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Problems of cut-point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-function is a poor approximation to true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most always fits data less well than a suitable continuous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al’ cut-points have several difficu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ased effect est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ated P-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reproducible in other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8B3-1E03-4C3B-998C-CFE5B6ADF7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Bootstrap stability analysis of the breast cancer dataset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852560" y="1800360"/>
          <a:ext cx="6315120" cy="46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2560" y="1800360"/>
                    <a:ext cx="631512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5E6-64DE-48F4-B95B-90E85F80A22E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Bootstrap analysis: summaries of fitted curves from stable subset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pic>
        <p:nvPicPr>
          <p:cNvPr id="200" name="fig4" descr=""/>
          <p:cNvPicPr/>
          <p:nvPr/>
        </p:nvPicPr>
        <p:blipFill>
          <a:blip r:embed="rId1"/>
          <a:stretch/>
        </p:blipFill>
        <p:spPr>
          <a:xfrm>
            <a:off x="1087560" y="1752480"/>
            <a:ext cx="69674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0B6-C7D5-4E32-BF9C-AB3D72357D57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Presentation of models for continuous covariate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nction + 95% CI gives the whol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for important covariates should always be plo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pidemiology, sometimes useful to give a more conventional table of results in 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n be done from the fitted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EE3-F3E1-4DB1-B646-B8E0F4C5B55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Example: Cigarette smoking and all-cause mortality (Whitehall 1)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2400" y="2057400"/>
          <a:ext cx="7637400" cy="391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2057400"/>
                    <a:ext cx="763740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E4B-A8D2-4ED9-AB80-C1054BCB477F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Other issues (1)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ndling continuous confou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 use a larger P-value for selection e.g. 0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so concerned about functional form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nary/continuous covariate inte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be modelled using FPs (Royston &amp; Sauerbrei 20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just for other factors using MF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338-341C-4CCF-85D7-0A612C7BA62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Other issues (2)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ime-varying effects in surviv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be modelled using FP functions of time (Berger; also Sauerbrei &amp; Royston, in prog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ecking adequacy of FP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 be done by using sp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t FP function and see if spline function adds anything, adjusting for the fitted FP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48B-ED02-481F-A3EE-73C529E724AE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00"/>
                </a:solidFill>
                <a:latin typeface="Arial Black"/>
              </a:rPr>
              <a:t>Stata</a:t>
            </a: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 aspect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an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mf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part of Stata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 of 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fp stcox x1 x2 x3 x4a x4b x5 x6 x7 hormon, select(0.05, hormon: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an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mrsnb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vailable from 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 of 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rsnb stcox x1 x2 x3 x4a x4b x5 x6 x7 hormon, select(0.05, hormon: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an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mfpboo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vailable from 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bootstrap stability analysis of MFP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96C-FE29-4531-8A8C-60733715A1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Concluding remarks (1)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P method in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ason (other than convention) why regression models should include only positive integer powers of covar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P is a simple extension of an existin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to program and simple to expl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ric, so can easily get predict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P usually gives better fit than standard poly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do worse, since standard polynomials are in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EF68-D8C5-4CB9-8EE2-19A31100BD1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Concluding remarks (2)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variable FP mod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applications in general context of multiple regression mod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defined procedure based on standard principles for selecting variables a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ects of robustness and stability have been investigated (and methods are avail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experience gained so far suggests that method is very useful in clinical epidem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00D-3A9C-4D76-A2EA-65EAC2C8449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Some reference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2760" y="1447920"/>
            <a:ext cx="817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oyston P, Altman DG (1994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ression using fractional polynomials of continuous covariates: parsimonious parametric modelling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ed Statistic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429-4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yston P, Altman DG (1997) Approximating statistical functions by using fractional polynomial regression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istici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-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24"/>
              </a:spcAft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erbrei W, Royston P (1999) Building multivariable prognostic and diagnostic models: transformation of the predictors by using fractional polynomials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RSS(A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2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-94. Corrigendum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RSS(A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5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9-400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24"/>
              </a:spcAft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yston P, Ambler G, Sauerbrei W. (1999) The use of fractional polynomials to model continuous risk variables in epidemiology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Journal of Epidemiolog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64-97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24"/>
              </a:spcAft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yston P, Sauerbrei W (2004). A new approach to modelling interactions between treatment and continuous covariates in clinical trials by using fractional polynomials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s in Medici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509-252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24"/>
              </a:spcAft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yston P, Sauerbrei W (2003) Stability of multivariable fractional polynomial models with selection of variables and transformations: a bootstrap investigation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s in Medicin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639-65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224"/>
              </a:spcAft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mitage P, Berry G, Matthews JNS (2002)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al Methods in Medical Researc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xford, Blackwe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CFC-D604-4129-83ED-1D44A49C2924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Example datasets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1. Epidemiology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hal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,370 male Civil Servants aged 40-64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ments include: age, cigarette smoking, BP, cholesterol, height, weight, job 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comes of interest: coronary heart disease, all-cause mortal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istic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ted in risk as function of covar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ntinuous covar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ay have no influence in multivariable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366-693C-414C-A748-D16092B8C3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Example datasets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2. Clinical studies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 breast cancer study group (BMFT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nostic factors in primary breast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, menopausal status, tumour size, grade, no. of positive lymph nodes, hormone receptor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rence-free survival ti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x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86 patients, 299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ntinuous covar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ted in prognostic model and effect of individu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030A-27AA-46F6-B8B1-D93213D8181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Example: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Systolic blood pressure vs. age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pic>
        <p:nvPicPr>
          <p:cNvPr id="104" name="inn1_0" descr=""/>
          <p:cNvPicPr/>
          <p:nvPr/>
        </p:nvPicPr>
        <p:blipFill>
          <a:blip r:embed="rId1"/>
          <a:stretch/>
        </p:blipFill>
        <p:spPr>
          <a:xfrm>
            <a:off x="1378080" y="1752480"/>
            <a:ext cx="63878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B7D-8EBD-49CE-9070-19BC95B51E7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Example: Curve fitting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 Rounded MT Bold"/>
              </a:rPr>
              <a:t>(Systolic BP and age – not linear)</a:t>
            </a:r>
            <a:endParaRPr b="0" lang="en-US" sz="4000" spc="-1" strike="noStrike">
              <a:solidFill>
                <a:srgbClr val="ff6600"/>
              </a:solidFill>
              <a:latin typeface="Arial Rounded MT Bold"/>
            </a:endParaRPr>
          </a:p>
        </p:txBody>
      </p:sp>
      <p:pic>
        <p:nvPicPr>
          <p:cNvPr id="106" name="inn1" descr=""/>
          <p:cNvPicPr/>
          <p:nvPr/>
        </p:nvPicPr>
        <p:blipFill>
          <a:blip r:embed="rId1"/>
          <a:stretch/>
        </p:blipFill>
        <p:spPr>
          <a:xfrm>
            <a:off x="1378080" y="1676520"/>
            <a:ext cx="63878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EDC-897F-44D8-8142-49DC3FA0E38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8/4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2T19:47:40Z</dcterms:created>
  <dc:creator>P. Royston</dc:creator>
  <dc:description/>
  <dc:language>en-US</dc:language>
  <cp:lastModifiedBy>Royston</cp:lastModifiedBy>
  <dcterms:modified xsi:type="dcterms:W3CDTF">2005-04-01T15:41:42Z</dcterms:modified>
  <cp:revision>239</cp:revision>
  <dc:subject/>
  <dc:title>Motivation</dc:title>
</cp:coreProperties>
</file>