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913938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144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5611320" y="0"/>
            <a:ext cx="4303800" cy="33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258720" y="519120"/>
            <a:ext cx="3398760" cy="25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06080" y="3234960"/>
            <a:ext cx="7302600" cy="304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6465600"/>
            <a:ext cx="4303800" cy="331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5611320" y="6465600"/>
            <a:ext cx="4303800" cy="331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549CF1E-D669-4994-9BAD-4FED29089E0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611320" y="6465600"/>
            <a:ext cx="4303800" cy="331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FADC705-0432-49C8-A95A-DACCFE41129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6465600"/>
            <a:ext cx="4303800" cy="331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0"/>
            <a:ext cx="4303800" cy="33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611320" y="0"/>
            <a:ext cx="4303800" cy="33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227400" y="4953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306080" y="3234960"/>
            <a:ext cx="730260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700360" y="6308640"/>
            <a:ext cx="403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mb&amp;Reitzig – Non Linear Functions in Panel Data 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601992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09480"/>
            <a:ext cx="876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7238880" y="6261120"/>
          <a:ext cx="1649520" cy="520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6261120"/>
                    <a:ext cx="16495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6320" y="6095880"/>
            <a:ext cx="1295280" cy="6778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20" y="857520"/>
            <a:ext cx="8985240" cy="21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n Linear Functions in Panel Data Mode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Using St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4200" y="4183200"/>
            <a:ext cx="8933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sentation at the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ata User Group Meeting in Berl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. April 2005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Fred Ramb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nd Markus Reitzi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238880" y="6261120"/>
          <a:ext cx="1649520" cy="52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6261120"/>
                    <a:ext cx="16495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5989680"/>
            <a:ext cx="151452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91240" y="141120"/>
            <a:ext cx="43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ical Results: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836640"/>
            <a:ext cx="70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penstedt: account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tream: stock mark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2276640"/>
            <a:ext cx="680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-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lidated financial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ing sect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4003560"/>
            <a:ext cx="680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on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786 observations / 676 firms (Overa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463 observations / 325 firms (HGB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32 observations / 139  firms (I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91 observations / 212  firms ( US-GA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227640" y="1557360"/>
            <a:ext cx="1511280" cy="345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1557360"/>
            <a:ext cx="1511280" cy="345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1557360"/>
            <a:ext cx="1657440" cy="345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1600" y="141120"/>
            <a:ext cx="48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ical Results: Exampl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09308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443640" y="1413000"/>
            <a:ext cx="1511280" cy="424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1413000"/>
            <a:ext cx="1511280" cy="424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71640" y="1413000"/>
            <a:ext cx="1729080" cy="424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1600" y="141120"/>
            <a:ext cx="48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ical Results: Exampl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09308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93640" y="1292400"/>
            <a:ext cx="18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080" y="660240"/>
            <a:ext cx="86868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fferent results by estimating pooled cross sectional nonlinear least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squares on the one hand and by estimating fixed effects using the algorithm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on the other hand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sults using the algorithm are more effici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1960" y="141120"/>
            <a:ext cx="17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080" y="2367000"/>
            <a:ext cx="86868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o-File is limited to the q-mod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eteroskedasticity? Robust estimation is necess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cal or global maximum? Bootstrap is necess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ynamics? GMM is necessa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93640" y="1292400"/>
            <a:ext cx="18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249228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93640" y="1292400"/>
            <a:ext cx="18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0880" y="1411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 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93640" y="1811160"/>
            <a:ext cx="80438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93640" y="1292400"/>
            <a:ext cx="18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575316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93640" y="1292400"/>
            <a:ext cx="18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0520" y="141120"/>
            <a:ext cx="22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 (I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77960" y="1292400"/>
            <a:ext cx="780552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3640" y="1292400"/>
            <a:ext cx="18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197000"/>
            <a:ext cx="715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etical models often are nonline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.g. in economics the well known q-model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 pan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LLS estimator is bi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effects estimator is effici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software package is not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1240" y="14112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93640" y="1292400"/>
            <a:ext cx="18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1197000"/>
            <a:ext cx="715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ized Fixed Effects Estim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a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ed Cross Sectional Nonlinear Lea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qu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el Data Random Effects and Fix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al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1240" y="14112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5640" y="660240"/>
            <a:ext cx="458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bb-Douglas Productio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240" y="14112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 (I): q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95640" y="1335240"/>
                <a:ext cx="3170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755640" y="2184480"/>
            <a:ext cx="35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arithmic 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3824280"/>
            <a:ext cx="37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                      for small 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979640" y="2736720"/>
                <a:ext cx="54007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37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17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600200" y="3879720"/>
                <a:ext cx="12603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1440" y="341064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232000" y="4508640"/>
                <a:ext cx="48960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1440" y="115920"/>
            <a:ext cx="35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 (II):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20800" y="3411360"/>
                <a:ext cx="78994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ntro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ariable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564000" y="4254480"/>
                <a:ext cx="2376360" cy="15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t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t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t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t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638280" y="4343400"/>
            <a:ext cx="53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8280" y="741240"/>
            <a:ext cx="573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arithmic 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8280" y="2403360"/>
            <a:ext cx="724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                      for larger x, linearized version is estimat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052720" y="1293840"/>
                <a:ext cx="54007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422360" y="2475000"/>
                <a:ext cx="12603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≠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74520" y="196776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93640" y="1292400"/>
            <a:ext cx="18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836640"/>
            <a:ext cx="86868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nla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"`1'" =="?" {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S_1 "B_0 X1 C1 C2 C3 T1 T2 T3 T4 T5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B_0= 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 X1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 C1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 C2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 C3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 T1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 T2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 T3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 T4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 T5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 `1'=$B_0 + ln(1+($X1*x2)) + $C1*control1+$C2*control2 + $C3*control3    /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/                       + $T1*dyear1 + $T3*dyear2 + $T3*dyear3 + $T4*dyear4 + $T5*dyear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 acc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1600" y="141120"/>
            <a:ext cx="30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a Code: N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93640" y="1292400"/>
            <a:ext cx="18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40" y="836640"/>
            <a:ext cx="67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treg y x control1 control2 time*, 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800" y="14112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a Code: Fixed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3640" y="1203480"/>
            <a:ext cx="67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 ex = _b[x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 y_s  = y - (log(1+ex*x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 x_s = x / (1+ (ex*x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640" y="2119320"/>
            <a:ext cx="6507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g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cal i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hile `i' &lt; 50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ietly xtreg y_s x_s control1 control2 time*, 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ietly replace ex = ex + _b[x_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ietly replace y_s  = y - (log(1+ex*x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ietly replace x_s = x2 / (1+ (ex*x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cal i = `i'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3640" y="4683240"/>
            <a:ext cx="650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g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place y_s = y - (log(1+ex*x)) + (ex*(x / (1+ (ex*x)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treg y_s x_s control1 control2 time*, 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93640" y="1292400"/>
            <a:ext cx="18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3640" y="836640"/>
            <a:ext cx="7228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treg y x control1 control2 time*, 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 exr = _b[x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 y_sr  = y - (log(1+exr*x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 x_sr = x / (1+ (exr*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i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`i' &lt; 50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ly replace exr = exr + _b[x_s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ly replace y_sr  = y-(log(1+exr*x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ly replace x_sr = x / (1+ (exr*x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ly xtreg y_sr x_sr control1 control2 time*, 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i = `i'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y_sr = y-(log(1+exr*x)) + (exr*(x / (1+ (exr*x)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treg y_sr x_sr control1 control2 time*, 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ttest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0880" y="141120"/>
            <a:ext cx="469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a Code: Random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93640" y="1292400"/>
            <a:ext cx="18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3640" y="836640"/>
            <a:ext cx="715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treg y_s x_s control1 control2 time*, 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store 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treg y_sr x_sr control1 control2 time*, 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sman 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1960" y="141120"/>
            <a:ext cx="44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a Code: Hausma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8T09:06:33Z</dcterms:created>
  <dc:creator>Dr. Peter Freier</dc:creator>
  <dc:description/>
  <dc:language>en-US</dc:language>
  <cp:lastModifiedBy>w0504di</cp:lastModifiedBy>
  <cp:lastPrinted>2004-05-24T15:06:29Z</cp:lastPrinted>
  <dcterms:modified xsi:type="dcterms:W3CDTF">2005-04-07T07:09:21Z</dcterms:modified>
  <cp:revision>940</cp:revision>
  <dc:subject/>
  <dc:title>Kein Folientitel</dc:title>
</cp:coreProperties>
</file>