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8D91A-B045-4523-B912-FD52787A82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197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481200"/>
            <a:ext cx="76197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91C41-A5EB-4C53-9D8B-ACBACF0201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71808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71808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481200"/>
            <a:ext cx="371808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3481200"/>
            <a:ext cx="371808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B8516-616E-4481-960A-4E01DC2170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4534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980720"/>
            <a:ext cx="24534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980720"/>
            <a:ext cx="24534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481200"/>
            <a:ext cx="24534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3481200"/>
            <a:ext cx="24534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3481200"/>
            <a:ext cx="24534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40808-3838-403B-A690-FDCF0C69AF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761976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19760" cy="28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718080" cy="28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718080" cy="28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2120" y="914400"/>
            <a:ext cx="5943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71808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718080" cy="28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2120" y="3481200"/>
            <a:ext cx="371808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761976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7EE50-327B-41B2-94D8-CA5EC0F10F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718080" cy="28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71808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6320" y="3481200"/>
            <a:ext cx="371808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71808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71808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2120" y="3481200"/>
            <a:ext cx="76197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197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62120" y="3481200"/>
            <a:ext cx="76197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71808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71808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3481200"/>
            <a:ext cx="371808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6320" y="3481200"/>
            <a:ext cx="371808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4534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8640" y="1980720"/>
            <a:ext cx="24534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15160" y="1980720"/>
            <a:ext cx="24534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2120" y="3481200"/>
            <a:ext cx="24534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8640" y="3481200"/>
            <a:ext cx="24534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15160" y="3481200"/>
            <a:ext cx="24534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19760" cy="28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593E9-73A9-421E-9948-D4C9AFF84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718080" cy="28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718080" cy="28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0C964-F162-4299-AB86-FDBAA27672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8D954-BA3B-4BB3-9A9C-3B5FF28CF0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914400"/>
            <a:ext cx="5943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90243-80DC-419B-94A3-542C6D0645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71808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718080" cy="28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481200"/>
            <a:ext cx="371808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0D7B1-9D67-47C2-810C-2DB551765F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718080" cy="28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71808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3481200"/>
            <a:ext cx="371808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FAEAF-F0B9-4B37-8CBC-88CCB50310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71808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980720"/>
            <a:ext cx="371808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481200"/>
            <a:ext cx="76197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DF734-F0D3-4A46-BAFD-0DB8E051C9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457200"/>
            <a:ext cx="8229600" cy="5943600"/>
          </a:xfrm>
          <a:prstGeom prst="roundRect">
            <a:avLst>
              <a:gd name="adj" fmla="val 16667"/>
            </a:avLst>
          </a:prstGeom>
          <a:solidFill>
            <a:srgbClr val="cce3f3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980720"/>
            <a:ext cx="7619760" cy="28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6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B225-6AB4-4F33-A40A-07652D746776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934320" y="901800"/>
            <a:ext cx="1299960" cy="100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2895120"/>
            <a:ext cx="6705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27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57200"/>
            <a:ext cx="8229600" cy="5943600"/>
          </a:xfrm>
          <a:prstGeom prst="roundRect">
            <a:avLst>
              <a:gd name="adj" fmla="val 16667"/>
            </a:avLst>
          </a:prstGeom>
          <a:solidFill>
            <a:srgbClr val="cce3f3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52680" y="861840"/>
            <a:ext cx="2438640" cy="1881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33440" algn="ctr"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752480" algn="ctr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75248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75248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010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 Black"/>
              </a:rPr>
              <a:t>Stata - Experiences and Needs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Arial Black"/>
              </a:rPr>
              <a:t> of a Professional Services Organisation</a:t>
            </a:r>
            <a:endParaRPr b="0" lang="en-US" sz="2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2193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Dr. Andreas Stiehler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Berlecon Research GmbH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Oranienburger Str. 32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10117 Berli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as@berlecon.d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Fon/Fax: +49 30 285296-0/-29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78760" y="190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504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matrix def e = 1,1,1,1,1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foreach var of varlist q31* {</a:t>
            </a:r>
            <a:br>
              <a:rPr sz="1200"/>
            </a:b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/*********Country******************************/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tabulate `var' country, matcell(c`var')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matrix define gesc`var'= e * c`var'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matrix define c`var' = c`var' * inv(diag(gesc`var')) * 100</a:t>
            </a:r>
            <a:br>
              <a:rPr sz="1200"/>
            </a:b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/***********Education*************************/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tabulate `var' edu, matcell(e`var')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matrix define gese`var'= e * e`var'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matrix define e`var' = e`var' * inv(diag(gese`var')) * 100</a:t>
            </a:r>
            <a:br>
              <a:rPr sz="1200"/>
            </a:b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/***************All together***************************/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matrix define `var' = c`var''\e`var'‘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matrix define `var' = `var'* (1,1,0,0,0)'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svmat `var', names (z`var')</a:t>
            </a:r>
            <a:br>
              <a:rPr sz="1200"/>
            </a:b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foreach var of varlist z`var'* {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replace `var' = round(`var') 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}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}</a:t>
            </a:r>
            <a:br>
              <a:rPr sz="1200"/>
            </a:br>
            <a:endParaRPr b="0" lang="en-US" sz="1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1358280" y="990720"/>
            <a:ext cx="52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etaPlusNormal"/>
              </a:rPr>
              <a:t>Programming of table-read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E0C38-4695-447D-9E0B-FCD6025C7745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66"/>
                </a:solidFill>
                <a:latin typeface="Arial Black"/>
              </a:rPr>
              <a:t>III. Graphs: </a:t>
            </a:r>
            <a:r>
              <a:rPr b="0" lang="en-GB" sz="2200" spc="-1" strike="noStrike">
                <a:solidFill>
                  <a:srgbClr val="000066"/>
                </a:solidFill>
                <a:latin typeface="Arial Black"/>
              </a:rPr>
              <a:t>Main challenges</a:t>
            </a:r>
            <a:endParaRPr b="0" lang="en-US" sz="2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1103400" y="3833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5105520" cy="3581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28800" y="5646600"/>
            <a:ext cx="7203960" cy="650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85920" indent="-385920">
              <a:lnSpc>
                <a:spcPct val="90000"/>
              </a:lnSpc>
              <a:spcBef>
                <a:spcPts val="1125"/>
              </a:spcBef>
              <a:buClr>
                <a:srgbClr val="000066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hallenge: Many graphs needed by Berlecon Research are non-standard in Stata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9920" y="2193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866920" y="1904760"/>
            <a:ext cx="2667240" cy="33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aphs at Berlec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410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bout 7 different graph types in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410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ustomisation time: about 2 weeks (GUI -”Submit” - big hel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410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 of program files makes it economic (re-use of do.fi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410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xtensive use of overlaid two-way cha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0E2DC-CBB0-45D0-B742-017501EF3C87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293364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Arial Black"/>
              </a:rPr>
              <a:t>IV. Conclusions and wish list</a:t>
            </a:r>
            <a:r>
              <a:rPr b="0" lang="de-DE" sz="2200" spc="-1" strike="noStrike">
                <a:solidFill>
                  <a:srgbClr val="000066"/>
                </a:solidFill>
                <a:latin typeface="Arial Black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7EB17-92A4-44DD-8850-C01D814C13AA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66"/>
                </a:solidFill>
                <a:latin typeface="Arial Black"/>
              </a:rPr>
              <a:t>IV. Conclusions </a:t>
            </a:r>
            <a:endParaRPr b="0" lang="en-US" sz="2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61976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Stata has the potential to serve as a helpful tool                                    for the specific needs of professional services organis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6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ility to streamlined and less error prone generation of table-ready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6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gh quality graphs - no additional software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6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uitive user interface and collaboration via Statalist facilitates programming for non-expe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re are several challen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6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ndard output typically not sufficient for further processing in tables and grap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6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nding appropriate solutions is challenging - but it’s worth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28800" y="5665680"/>
            <a:ext cx="7203960" cy="650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85920" indent="-385920">
              <a:lnSpc>
                <a:spcPct val="90000"/>
              </a:lnSpc>
              <a:spcBef>
                <a:spcPts val="1125"/>
              </a:spcBef>
              <a:buClr>
                <a:srgbClr val="000066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ools facilitating the customisation  process could help to win further professional services organisations as custom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655FA-E9E0-495C-B37D-EA3EF3BEF732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5943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66"/>
                </a:solidFill>
                <a:latin typeface="Arial Black"/>
              </a:rPr>
              <a:t>IV. Wish list</a:t>
            </a:r>
            <a:endParaRPr b="0" lang="en-US" sz="2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619760" cy="39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b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tion 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6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ign tables within the Stata program!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6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ve percentages in mat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6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play “zero” rows/columns to matrices in case of empty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aph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6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tion to define colours for value labels in stacked bar charts as standard (as it is possible for pie char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6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” options for labels on y/x-axis (including line breaks, size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6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k “A visual guide to Stata” for non-standard grap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41400" y="5802480"/>
            <a:ext cx="7178760" cy="37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85920" indent="-385920">
              <a:lnSpc>
                <a:spcPct val="90000"/>
              </a:lnSpc>
              <a:spcBef>
                <a:spcPts val="1125"/>
              </a:spcBef>
              <a:buClr>
                <a:srgbClr val="000066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anks for your attention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EE863-823F-49F0-93B6-7F4DC8532006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3276360"/>
            <a:ext cx="41907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/***Tabulate results to data editor*********/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matrix define e7 = 1,1,1,1,1,1,1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foreach var of varlist f7* {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tabulate `var' [fweight=rweight], matcell(`var')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matrix define ges`var' = e7 * `var'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matrix define `var' = `var' * inv(ges`var')* 100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}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matrix define y7 = f7a,f7b,f7c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matrix define y7 = y7'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svmat y7</a:t>
            </a:r>
            <a:br>
              <a:rPr sz="1200"/>
            </a:b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/*Stack bars*/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gen y7stack7 = y71+y72+y73+y74+y75+y76+y77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gen y7stack6 = y71+y72+y73+y74+y75+y76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gen y7stack5 = y71+y72+y73+y74+y75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gen y7stack4 = y71+y72+y73+y74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gen y7stack3 = y71+y72+y73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gen y7stack2 = y71+y72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gen y7stack1 = y71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}</a:t>
            </a:r>
            <a:endParaRPr b="0" lang="en-US" sz="1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6" name=""/>
          <p:cNvSpPr/>
          <p:nvPr/>
        </p:nvSpPr>
        <p:spPr>
          <a:xfrm>
            <a:off x="1362600" y="914400"/>
            <a:ext cx="54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etaPlusNormal"/>
              </a:rPr>
              <a:t>Programming of graph-read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81480" y="4495680"/>
            <a:ext cx="4191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/*counting*/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matrix input zaehl3 = (1\2\3)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svmat zaehl3</a:t>
            </a:r>
            <a:br>
              <a:rPr sz="1200"/>
            </a:b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/*Rounded scatter values*/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forvalues i = 1/7 {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gen y7scat`i' = y7stack`i'-y7`i'/2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replace y7`i' = round(y7`i')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4E7C3-37F4-47E2-8255-C5F631380A43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352680"/>
            <a:ext cx="7696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twoway ///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(bar y7stack7 zaehl31, horizontal blcolor(black) bfcolor(gs13) barwidth(0.5)) /// 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(scatter zaehl31 y7scat7, msymbol(none) mlabel(y77) mlabsize(medsmall) ///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mlabcolor(black) mlabposition(0)) ///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///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(bar y7stack6 zaehl31, horizontal blcolor(black) bfcolor(gs3) barwidth(0.5)) /// 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(scatter zaehl31 y7scat6, msymbol(none) mlabel(y76) mlabsize(medsmall) ///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mlabcolor(white) mlabposition(0)) ///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///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(bar y7stack5 zaehl31, horizontal blcolor(black) bfcolor("204 255 204") barwidth(0.5)) /// 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(scatter zaehl31 y7scat5, msymbol(none) mlabel(y75) mlabsize(medsmall) ///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mlabcolor(black) mlabposition(0)) ///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///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(bar y7stack4 zaehl31, horizontal blcolor(black) bfcolor("0 204 0") barwidth(0.5)) ///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(scatter zaehl31 y7scat4 .........</a:t>
            </a:r>
            <a:endParaRPr b="0" lang="en-US" sz="1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9" name=""/>
          <p:cNvSpPr/>
          <p:nvPr/>
        </p:nvSpPr>
        <p:spPr>
          <a:xfrm>
            <a:off x="1087560" y="1143000"/>
            <a:ext cx="505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etaPlusNormal"/>
              </a:rPr>
              <a:t>Programming of overlaid ch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0BD41-C2C9-49B3-BFCE-B65F3720599F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09320" y="3581280"/>
            <a:ext cx="7696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..../// 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, ylabel( ///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0.85 "Cost " ///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1.15 "leadership " ///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1.4 "..........................." ///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1.85 "Quality "  ///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2.15 "leadership " ///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2.4 "..........................." ///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2.85 "Innovation " ///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3.15 "leadership " ///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3.4 "..........................." ///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3.85 "Market " ///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4.15 "leadership " ///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4.4 "..........................." ///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4.85 "Vertical " ///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5.15 "focus " ///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5.4 "..........................." ///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5.85 "Focus on " ///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6.16 "enterprise size" ///</a:t>
            </a:r>
            <a:br>
              <a:rPr sz="1200"/>
            </a:br>
            <a:r>
              <a:rPr b="0" lang="de-DE" sz="1200" spc="-1" strike="noStrike">
                <a:solidFill>
                  <a:srgbClr val="000066"/>
                </a:solidFill>
                <a:latin typeface="Arial Black"/>
              </a:rPr>
              <a:t>, .....</a:t>
            </a:r>
            <a:r>
              <a:rPr b="0" lang="de-DE" sz="2200" spc="-1" strike="noStrike">
                <a:solidFill>
                  <a:srgbClr val="000066"/>
                </a:solidFill>
                <a:latin typeface="Arial Black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1" name=""/>
          <p:cNvSpPr/>
          <p:nvPr/>
        </p:nvSpPr>
        <p:spPr>
          <a:xfrm>
            <a:off x="1171440" y="114300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MetaPlusNormal"/>
              </a:rPr>
              <a:t>Labelling of b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26163-632B-45BD-9F5F-91BCC28DF430}" type="slidenum">
              <a:t>17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03400" y="3833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914400"/>
            <a:ext cx="6248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Arial Black"/>
              </a:rPr>
              <a:t>Outline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837720" y="1993680"/>
            <a:ext cx="7239240" cy="18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0000"/>
              </a:lnSpc>
              <a:spcBef>
                <a:spcPts val="1125"/>
              </a:spcBef>
              <a:buClr>
                <a:srgbClr val="000066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ro: Berlecon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1125"/>
              </a:spcBef>
              <a:buClr>
                <a:srgbClr val="000066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quirements for statistic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1125"/>
              </a:spcBef>
              <a:buClr>
                <a:srgbClr val="000066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ploying Stata 8: main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1125"/>
              </a:spcBef>
              <a:buClr>
                <a:srgbClr val="000066"/>
              </a:buClr>
              <a:buSzPct val="9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clusions and wish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0796E-3C4E-4D95-B273-8183A6B47BC9}" type="slidenum">
              <a:t>2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66"/>
                </a:solidFill>
                <a:latin typeface="Arial Black"/>
              </a:rPr>
              <a:t>I. Intro: Berlecon Research GmbH</a:t>
            </a:r>
            <a:endParaRPr b="0" lang="en-US" sz="2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893600"/>
            <a:ext cx="7315200" cy="37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 analyze the potential of new technolog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6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alyses are typically published as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ur clients are demanding and have high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6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executives from large and medium-sized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6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chnology  and consulting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6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blic institutions (EU commission, BMWA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mpirical work makes up a significant part of the re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6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out 3 - 5 surveys per year (increasing import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6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typically delivered by market research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03400" y="3833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30240" y="5665680"/>
            <a:ext cx="7201080" cy="650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85920" indent="-385920"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equirements for statistics software differ from that of typical Stata users (scientists).</a:t>
            </a:r>
            <a:r>
              <a:rPr b="0" lang="de-DE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1E6AA-DD98-4891-B60B-36C1FA1B9A8E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293364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66"/>
                </a:solidFill>
                <a:latin typeface="Arial Black"/>
              </a:rPr>
              <a:t>II. Requirements for statistics software</a:t>
            </a:r>
            <a:endParaRPr b="0" lang="en-US" sz="2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BBB06-E9A9-407E-B307-A2592ED202B2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5638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66"/>
                </a:solidFill>
                <a:latin typeface="Arial Black"/>
              </a:rPr>
              <a:t>II. Requirements for statistics </a:t>
            </a:r>
            <a:br>
              <a:rPr sz="2200"/>
            </a:br>
            <a:r>
              <a:rPr b="0" lang="de-DE" sz="2200" spc="-1" strike="noStrike">
                <a:solidFill>
                  <a:srgbClr val="000066"/>
                </a:solidFill>
                <a:latin typeface="Arial Black"/>
              </a:rPr>
              <a:t>    software</a:t>
            </a:r>
            <a:endParaRPr b="0" lang="en-US" sz="2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906200"/>
            <a:ext cx="7315200" cy="37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 need less sophisticated statistic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6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90% binomial and ordin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6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inly descriptive statistics needed (tabulate, tabsum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t high quality graphs and tables!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6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yout of the reports is a competitive 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 only have a limited amount of tim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6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both exploring software opportunities and compu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t need highly reliable dat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6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rrors in data analysis would seriously damage our re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03400" y="3833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41400" y="5802480"/>
            <a:ext cx="7178760" cy="37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85920" indent="-385920">
              <a:lnSpc>
                <a:spcPct val="90000"/>
              </a:lnSpc>
              <a:spcBef>
                <a:spcPts val="1125"/>
              </a:spcBef>
              <a:buClr>
                <a:srgbClr val="000066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Stata 8 has the potential to fulfil many of these requirem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2BF81-1646-4878-AF25-D8C9B59C52D8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5943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66"/>
                </a:solidFill>
                <a:latin typeface="Arial Black"/>
              </a:rPr>
              <a:t>II. Requirements for statistics </a:t>
            </a:r>
            <a:br>
              <a:rPr sz="2200"/>
            </a:br>
            <a:r>
              <a:rPr b="0" lang="de-DE" sz="2200" spc="-1" strike="noStrike">
                <a:solidFill>
                  <a:srgbClr val="000066"/>
                </a:solidFill>
                <a:latin typeface="Arial Black"/>
              </a:rPr>
              <a:t>    software</a:t>
            </a:r>
            <a:endParaRPr b="0" lang="en-US" sz="2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833480"/>
            <a:ext cx="7315200" cy="38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uly 2004: Start of internal project with two obj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6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oosing a new statistics software and - based on it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6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nding a way to streamline the creation of tables and grap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cision in favour of Stata 8, decisive feature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6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ramming opportunities: allows for customisation of outputs and exploiting economies of sc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6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uitive user interface: facilitates the exploration of possibilities that Stata off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6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aphs: high quality, no additional software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6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rther features: Statalist, Mac support,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03400" y="3833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5862960"/>
            <a:ext cx="7178760" cy="37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85920" indent="-385920">
              <a:lnSpc>
                <a:spcPct val="90000"/>
              </a:lnSpc>
              <a:spcBef>
                <a:spcPts val="1125"/>
              </a:spcBef>
              <a:buClr>
                <a:srgbClr val="000066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ut: Exploiting the potentials for our needs is challen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2A15D-3628-495F-BC7F-0198DCF0431B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293364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Arial Black"/>
              </a:rPr>
              <a:t>III. Tables and Graphs: main challenges</a:t>
            </a:r>
            <a:r>
              <a:rPr b="0" lang="de-DE" sz="2200" spc="-1" strike="noStrike">
                <a:solidFill>
                  <a:srgbClr val="000066"/>
                </a:solidFill>
                <a:latin typeface="Arial Black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A084E-9FDA-468C-B927-59D3BA992C2A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66"/>
                </a:solidFill>
                <a:latin typeface="Arial Black"/>
              </a:rPr>
              <a:t>III. Tables : Main Challenges</a:t>
            </a:r>
            <a:endParaRPr b="0" lang="en-US" sz="2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315200" cy="14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paration of data for custom tabl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verview tables typically compile results from several tabulate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ten further transformation of results needed (e.g., summary data   for general approval = fully agree + somewhat agre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03400" y="3833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066680" y="3581280"/>
          <a:ext cx="7239240" cy="200988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447920"/>
                <a:gridCol w="1447920"/>
              </a:tblGrid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i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 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 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 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countr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man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...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educ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-skill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-skill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914400" y="5862960"/>
            <a:ext cx="7178760" cy="37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85920" indent="-385920">
              <a:lnSpc>
                <a:spcPct val="90000"/>
              </a:lnSpc>
              <a:spcBef>
                <a:spcPts val="1125"/>
              </a:spcBef>
              <a:buClr>
                <a:srgbClr val="000066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 &amp; P from “tabulate” (s) is too time-consuming and error pr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BB52F-E1AC-4F36-9A26-3FA0FF541666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66"/>
                </a:solidFill>
                <a:latin typeface="Arial Black"/>
              </a:rPr>
              <a:t>III. Tables : Main Challenges</a:t>
            </a:r>
            <a:endParaRPr b="0" lang="en-US" sz="2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3152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lution today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rocessing of data via mat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04560">
              <a:spcBef>
                <a:spcPts val="1125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bulate results to matrix: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ab A B, col nofreq matcell (A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04560">
              <a:spcBef>
                <a:spcPts val="1125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formation of data using matrix operations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centages, aggregation, compiling for the presentation in t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04560">
              <a:spcBef>
                <a:spcPts val="1125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trix to data table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vmat (AB), names (newsol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04560">
              <a:spcBef>
                <a:spcPts val="1125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pying of table-ready data to Excel or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04560">
              <a:spcBef>
                <a:spcPts val="1125"/>
              </a:spcBef>
              <a:buClr>
                <a:srgbClr val="00006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gnificant time saving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half of the time needed compared to transfer of results on a case-by-case basis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04560">
              <a:spcBef>
                <a:spcPts val="1125"/>
              </a:spcBef>
              <a:buClr>
                <a:srgbClr val="000066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rror reduc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opying only o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03400" y="3833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41400" y="5783400"/>
            <a:ext cx="7178760" cy="37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85920" indent="-385920">
              <a:lnSpc>
                <a:spcPct val="90000"/>
              </a:lnSpc>
              <a:spcBef>
                <a:spcPts val="1125"/>
              </a:spcBef>
              <a:buClr>
                <a:srgbClr val="000066"/>
              </a:buClr>
              <a:buSzPct val="9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Stata 8 allows for creating table-ready results in an efficient w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323DB-7234-47A0-B56C-A3621952CEE4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4T11:41:19Z</dcterms:created>
  <dc:creator>*</dc:creator>
  <dc:description/>
  <dc:language>en-US</dc:language>
  <cp:lastModifiedBy>Ego</cp:lastModifiedBy>
  <cp:lastPrinted>2005-04-07T09:30:53Z</cp:lastPrinted>
  <dcterms:modified xsi:type="dcterms:W3CDTF">2005-04-12T09:10:49Z</dcterms:modified>
  <cp:revision>605</cp:revision>
  <dc:subject/>
  <dc:title>KATI</dc:title>
</cp:coreProperties>
</file>