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083-3F80-445A-B7D1-359AF604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ECE-E228-4601-AB77-6A603FFE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877-F234-4634-A725-C2A5F8B7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2A6-701D-4197-AD5D-5D76F6BC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D6D9-975B-48A5-9AD0-CABDC463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76A8-CFBB-43E0-9EC3-6282E089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44B2-D628-45E1-BADF-ED755E55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2124-24A4-4A03-9BF1-249093CD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69BC-9A13-409D-92FC-56847B86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4677-97EB-4AED-9CA0-CA70BCB5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7E82-8168-4DA2-B8FB-8F69F755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3AA4-8F7D-4FF6-8688-376AF825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11A6-8DC5-4E7E-8185-7E0DF3CD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4CE9-2530-418E-B7DD-BB60D1CC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3B7B-06FC-45E4-BFF6-2E9A5DD3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65CC-5237-4CF6-A979-D4BCE57F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C6A3-9815-4968-88C8-A491D2C7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EB9-F31B-446B-9E76-F59E0A08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0F1-D3E2-4DFD-AE34-762C8E39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536-32F8-47BE-81D9-DC410F1E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EA5-89CA-4564-A4E5-DEBD3444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2E8-50B5-41ED-9A13-555C4CE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CF0-F3A3-4AE6-8E76-BA954812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05C-DBDB-45B3-95B8-CF5726EF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7A59-4900-4AB8-8B3B-919E0136CF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76CB-8B5C-4778-A78C-385F2B488A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4720"/>
            <a:ext cx="7772400" cy="29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Variance estimation for Generalized Entropy and Atkinson inequality indices: the complex survey data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18920" y="3886200"/>
            <a:ext cx="774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rtin Biewen (Goethe University Frankfur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ephen Jenkins (University of Ess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24920" y="6021360"/>
            <a:ext cx="90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resentation at 4th German Stata User Group Meeting, Mannheim, 31 March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urvey data set-up for estimation of inequality among individua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1) Observation unit is person; sampling unit is household; all persons in each household attributed with the equivalised income of the house-hold to which they belong; individual sample weight available (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xwgt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) but no information about PSU or strat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2) As 1), except also know PSU and strata information (includes allowance for within-household correlation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3) Observation unit is household; sampling unit is household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weight (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xhhwgt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)= household sample weight     household siz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o information about PSU or str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356520" y="5243400"/>
            <a:ext cx="139680" cy="152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69040" y="321300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vyset [pw=xwgt], psu(hh_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5160" y="4325760"/>
            <a:ext cx="87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vyset [pw=xwgt], psu(PSU_id) strata(STRATA_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43560" y="58546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vyset [pw=xhhwg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95360" y="6127920"/>
            <a:ext cx="14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.i.d.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746680" y="5560560"/>
            <a:ext cx="47304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37120" y="6110280"/>
            <a:ext cx="1409760" cy="45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llustr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rman Socio-Economic Panel (GSOEP), wave 18 data (2001) used as a cross-s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2,939 individuals in 5,195 households; 1004 PSUs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psu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, 169 strata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trat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quivalized (‘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quare-root equivalence sca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) post-tax post-benefit household income (‘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eq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ach individual attributed with the equivalised income of her household (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 within househol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n if survey does not include PSU and strata identifiers, you should account for this (use house-hold identifier as PSU vari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Generalized Entropy indi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7240" y="2017440"/>
            <a:ext cx="8537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 ssc install svygei_svyat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 version 8.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 svyset [pweight=xwgt], psu(psu) strata(str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 svygei eq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omplex survey estimates of Generalized Entropy inequality ind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weight: xwgt                                  Number of obs    = 1293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rata: strata                                 Number of strata = 16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SU: psu                                       Number of PSUs   = 1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pulation size  = 314874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ndex    |  Estimate   Std. Err.      z      P&gt;|z|     [95% Conf. Interval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---------+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GE(-1)   |  .1179647   .00614786    19.19    0.000      .1059151   .130014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MLD      |  .1020797   .00495919    20.58    0.000      .0923599   .111799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Theil    |  .1027892    .0058706    17.51    0.000       .091283   .114295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GE(2)    |  .1201693   .00962991    12.48    0.000       .101295   .139043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GE(3)    |  .1713159   .02301064     7.45    0.000      .1262159   .216415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Atkinson indi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5440" y="2017800"/>
            <a:ext cx="858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 svyset [pweight=xwgt], psu(psu) strata(str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 svyatk eq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omplex survey estimates of Atkinson inequality ind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weight: xwgt                                  Number of obs    = 1293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rata: strata                                 Number of strata = 16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SU: psu                                       Number of PSUs   = 1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pulation size  = 314874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ndex    |  Estimate   Std. Err.      z      P&gt;|z|     [95% Conf. Interval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---------+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A(0.5)   |  .0496963    .0025263    19.67    0.000      .0447448   .054647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A(1)     |  .0970424   .00447794    21.67    0.000      .0882658    .10581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A(1.5)   |  .1434968   .00616915    23.26    0.000      .1314055   .155588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A(2)     |  .1908923   .00804946    23.71    0.000      .1751157    .20666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A(2.5)   |  .2432834   .01237288    19.66    0.000       .219033   .267533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ubpopulation op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800" y="2017800"/>
            <a:ext cx="842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 gen female = sex==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. svygei eq, subpop(femal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Complex survey estimates of Generalized Entropy inequality ind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weight: xwgt                                  Number of obs    = 1293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rata: strata                                 Number of strata = 16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SU: psu                                       Number of PSUs   = 100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pulation size  = 314874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bpop: female, subpop. size = 1649905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Index    |  Estimate   Std. Err.      z      P&gt;|z|     [95% Conf. Interval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---------+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GE(-1)   |   .112828   .00573308    19.68    0.000      .1015914   .124064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MLD      |  .0994741   .00471331    21.10    0.000      .0902362   .108712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heil    |  .0998958   .00543287    18.39    0.000      .0892476    .11054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GE(2)    |  .1151464   .00877057    13.13    0.000      .0979564   .132336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GE(3)    |  .1596125   .02029283     7.87    0.000      .1198392   .199385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mpirical illustration in our paper</a:t>
            </a: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SOEP income data for 2001 (same as used he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ritish Household Panel Survey for 2001 (9,979 indi-viduals in 4,058 households; 250 PSUs, 75 str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equality larger in Britain than in Germany, for  all indices, and difference is statistically signific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-ratios (inde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E) vary from 7.5 to 23.9 (DE) and 5.1 to 31.9 (GB), being smallest for top-sensi-tive indices and largest for middle-sensitive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though sample larger in Germany, z-ratios are not always smaller (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ifferent sample design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mpirical illustration (ctd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2600" y="2017800"/>
          <a:ext cx="7278840" cy="3166920"/>
        </p:xfrm>
        <a:graphic>
          <a:graphicData uri="http://schemas.openxmlformats.org/drawingml/2006/table">
            <a:tbl>
              <a:tblPr/>
              <a:tblGrid>
                <a:gridCol w="1040040"/>
                <a:gridCol w="1039680"/>
                <a:gridCol w="1039680"/>
                <a:gridCol w="1040040"/>
                <a:gridCol w="1039680"/>
                <a:gridCol w="1039680"/>
                <a:gridCol w="1040040"/>
              </a:tblGrid>
              <a:tr h="52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eat Brit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-r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s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z-r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(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1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6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9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3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3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102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4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17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6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8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e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102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5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167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7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2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1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21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18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97040" y="5468760"/>
            <a:ext cx="7351560" cy="738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077320" y="61182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77080" y="5961240"/>
            <a:ext cx="35568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mpirical illustration (ctd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ffects of different assumptions about survey design on sampling variance estimat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r each index, the estimated standard error is larger if one accounts for survey clustering and stratification (unsurprising), but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ults suggest that accounting for survey design features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per s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have little (additional) effect on variance estimate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 long a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he replication of incomes within multi-person households is ac-count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earchers now have the means to estimate samp-ling variances for most of the inequality indices in common use, accomodating a range of potential assumptions about design eff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pics for future researc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 indices are additively decomposable by popula-tion subgroup (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neqdec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: extend results here to the components of decompos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tend results to Gini coefficient and other measures based on order-statistics (Lorenz curves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Selected referen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iewen, M. and Jenkins S.P. (2006): Estimation of Generalized Entropy and Atkinson indices from com-plex survey data, forthcoming in: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Oxford Bulletin of Economics and Stat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well, F.A. (2000): Measurement of inequality, in A.B. Atkinson and F. Bourguignon (eds),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Handbook  of Income Distribu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Vol. 1, Elsevier, Amsterd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oodruff, R.S. (1971): A simple method for approxi-mating the variance of a complicated estimate,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Jour-nal of the American Statistical Associa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66, 411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Inequality indices: measures of the dispersion of a distrib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position of a small number of axioms substantially restricts functional form that indices may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xioms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onym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ale invar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plication invar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orm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inciple of Transfers: mean preserving spread                             in    incre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83080" y="3346560"/>
            <a:ext cx="4127400" cy="31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27560" y="3801960"/>
            <a:ext cx="1936800" cy="317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040360" y="4233960"/>
            <a:ext cx="3000240" cy="317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130560" y="2908440"/>
            <a:ext cx="3571920" cy="31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973680" y="4672080"/>
            <a:ext cx="2730240" cy="317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346480" y="5548320"/>
            <a:ext cx="174600" cy="22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987720" y="5478480"/>
            <a:ext cx="619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lasses of inequality measures satisfying the axio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neralized Entr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vantage: subgroup decompo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1360" y="3314880"/>
            <a:ext cx="7746840" cy="841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95160" y="4354560"/>
            <a:ext cx="7000920" cy="841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7880" y="5410080"/>
            <a:ext cx="6524640" cy="841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337520" y="1405080"/>
            <a:ext cx="1150920" cy="31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734240" y="1849320"/>
            <a:ext cx="704880" cy="17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230600" y="17398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389360" y="2185920"/>
            <a:ext cx="536760" cy="13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59160" y="619128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ransfer sensitivit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75440" y="5648400"/>
            <a:ext cx="452520" cy="387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65760" y="4589640"/>
            <a:ext cx="452520" cy="387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13600" y="3552840"/>
            <a:ext cx="452520" cy="387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7411680" y="3959280"/>
            <a:ext cx="1119240" cy="227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970680" y="4990680"/>
            <a:ext cx="1346400" cy="124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6562440" y="6013440"/>
            <a:ext cx="150804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Classes of inequality measures satisfying the axio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tkins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vantage: welfare interpre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ini co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dvantage: most well-known inequalit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28760" y="3073320"/>
            <a:ext cx="4984560" cy="873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97080" y="5292720"/>
            <a:ext cx="6508800" cy="746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57680" y="3344760"/>
            <a:ext cx="227160" cy="21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61040" y="3287880"/>
            <a:ext cx="22716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9800" y="41115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nequality a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839840" y="3582720"/>
            <a:ext cx="763560" cy="61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875200" y="3517560"/>
            <a:ext cx="417600" cy="68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stimation of inequality indi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se indices are routinely calculated by many analysts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most commonly-used programs among Stata users are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neqdeco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nequal7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available using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sc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u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nly rarely do analysts report estimates of the associated sampling variances (or SEs) of the esti-mat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Estimation of inequality indi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alytical derivations to date have omitted some important situations (and ind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st derivations assume i.i.d. observations (cf. survey clustering or other sample dependencies!), and don‘t consider probability weighting (cf. strati-fication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methods that do exist are no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l know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ck of availabl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ut cf.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geivar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Cowell (1989), linearization methods; i.i.d. assumptions) and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ineqer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bootstrap), both available using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s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What we provi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stimates of indices and associated sampling varian-ces for all members of the GE and Atkinson classes, while also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ccounting for clustering and stratification, and for the i.i.d.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alytical results (see our paper) and new Stata programs (version 8.2):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vygei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vyat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ased on Taylor-series linearization methods com-bined with a result from Woodruff (JASA, 197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ults don‘t apply to Gini coeffic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Overview of analytical deriv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961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rite estimator of each index as a function of popula-tion totals (involves sums over clusters, weights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Taylor-series approximation) Variance of each esti-mator can be approximated by variance of 1st order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idu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s is, each expression is not easily calculate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ut (Woodruff): reversing order of summation in      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idu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estimation is equivalent to derivation of a sampling variance of a total estimator for which one can apply standard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svy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  <a:ea typeface="Arial Unicode MS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The programs: 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Courier New"/>
              </a:rPr>
              <a:t>svygei </a:t>
            </a: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and</a:t>
            </a:r>
            <a:r>
              <a:rPr b="0" lang="de-DE" sz="4000" spc="-1" strike="noStrike">
                <a:solidFill>
                  <a:srgbClr val="333399"/>
                </a:solidFill>
                <a:latin typeface="Courier New"/>
              </a:rPr>
              <a:t> svyat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961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vygei varname [if exp] [in range] [,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lpha(#)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sub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pop(varname)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evel(#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vyatk varname [if exp] [in range] [,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psilon(#)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sub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pop(varname)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Courier New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evel(#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here, of course, the data have first been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vyse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ow data are organised, and described using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svyse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 of crucial importanc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33560" y="2835360"/>
            <a:ext cx="56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Calculations for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use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lpha(#)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option to chose one    other than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14840" y="2925720"/>
            <a:ext cx="2019240" cy="241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719760" y="3244680"/>
            <a:ext cx="150840" cy="12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059680" y="3197160"/>
            <a:ext cx="139680" cy="190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873160" y="4368960"/>
            <a:ext cx="60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Calculations for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use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epsilon(#)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option to chose one   other than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653000" y="4452840"/>
            <a:ext cx="2438280" cy="241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7023240" y="4784760"/>
            <a:ext cx="99720" cy="112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8280360" y="4735440"/>
            <a:ext cx="36828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3:03:16Z</dcterms:created>
  <dc:creator>Martin Biewen</dc:creator>
  <dc:description/>
  <dc:language>en-US</dc:language>
  <cp:lastModifiedBy>Martin Biewen</cp:lastModifiedBy>
  <dcterms:modified xsi:type="dcterms:W3CDTF">2006-03-27T16:22:25Z</dcterms:modified>
  <cp:revision>26</cp:revision>
  <dc:subject/>
  <dc:title>Folie 1</dc:title>
</cp:coreProperties>
</file>