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054B-C675-46DD-AC0B-0F124947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4DA0-0543-4513-8E8C-3CC7F7AF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6616-D223-41DF-8123-AB01A20E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AE7B-9B60-432F-8B41-5E82FB3F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0CB5-1440-40B1-82E2-5A97B130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B91B-8F18-48F7-96C5-9058027B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2A18-5D55-4E9F-B571-84227598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BBC8-4415-4A4F-AFCD-2A5D09BF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1623-EAF3-4597-A4D0-43DD4597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27EE-C789-409B-96D8-6C3F0F5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1BC9-4407-42D2-935A-9BB5868F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03D7-9C3A-4D44-941B-EE575995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8457840" y="0"/>
            <a:ext cx="685800" cy="6858000"/>
          </a:xfrm>
          <a:prstGeom prst="rect">
            <a:avLst/>
          </a:prstGeom>
          <a:solidFill>
            <a:srgbClr val="00a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620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inisch-Westfälisches Institut für Wirtschaftsforsch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00a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53964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52280" y="0"/>
            <a:ext cx="8382240" cy="162000"/>
          </a:xfrm>
          <a:prstGeom prst="rect">
            <a:avLst/>
          </a:prstGeom>
          <a:solidFill>
            <a:srgbClr val="00a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7620120" y="6248160"/>
            <a:ext cx="838080" cy="533160"/>
          </a:xfrm>
          <a:prstGeom prst="rect">
            <a:avLst/>
          </a:prstGeom>
          <a:noFill/>
          <a:ln w="0">
            <a:noFill/>
          </a:ln>
        </p:spPr>
        <p:txBody>
          <a:bodyPr lIns="0" rIns="18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F1E2-8C89-4A5C-BA47-93028994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5638680" y="6248160"/>
            <a:ext cx="1905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3"/>
          </p:nvPr>
        </p:nvSpPr>
        <p:spPr>
          <a:xfrm>
            <a:off x="914400" y="6248160"/>
            <a:ext cx="4317840" cy="5331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aisken-DeNew / Stata 2006 Man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5814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47840"/>
            <a:ext cx="7315200" cy="2117880"/>
          </a:xfrm>
          <a:prstGeom prst="rect">
            <a:avLst/>
          </a:prstGeom>
          <a:solidFill>
            <a:srgbClr val="00a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mplementing Restricted Least Squares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 Linear Models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r. John P. Haisken-DeNew</a:t>
            </a:r>
            <a:br>
              <a:rPr sz="20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jhaiskendenew@rwi-essen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23EA-ECA8-478A-B15C-289A0D98A5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b. Race (3-Way) 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1341360"/>
          <a:ext cx="741024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741024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002280" y="3860640"/>
            <a:ext cx="18669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54360" y="2227320"/>
            <a:ext cx="0" cy="32097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73640" y="2236680"/>
            <a:ext cx="0" cy="32101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02280" y="2255760"/>
            <a:ext cx="0" cy="32101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874B-FD3B-4E1A-95ED-6DD488F8336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c. Marital Status (4-Way) 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7400" y="1227240"/>
          <a:ext cx="7586640" cy="447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27240"/>
                    <a:ext cx="7586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88000" y="3645000"/>
            <a:ext cx="14414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1760" y="2147760"/>
            <a:ext cx="0" cy="32101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56120" y="2128680"/>
            <a:ext cx="0" cy="32101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2320" y="2119320"/>
            <a:ext cx="0" cy="32097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18240" y="2138400"/>
            <a:ext cx="0" cy="32097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C8F6-A0EA-465F-990A-364C2CD937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d. State of Residence (51-Way) Ref=Hi 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268280"/>
          <a:ext cx="7399080" cy="44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39908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DCA2-B320-4146-BE51-14A67430FAF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d. State of Residence (51-Way) Ref=Lo 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4360" y="1268280"/>
          <a:ext cx="7399080" cy="44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39908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41A3-DC83-4227-B830-A99026099FE5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d. State of Residence (51-Way) 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4360" y="1268280"/>
          <a:ext cx="74008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4008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1547640" y="3773520"/>
            <a:ext cx="6423120" cy="15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1B79-1238-4801-BB5B-F577A75CCE1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4. Conclusions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125360"/>
            <a:ext cx="79200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LS: Interpretation of Dummy Variable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Even with a small dimension, RLS intuitive interpretation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Remove arbitrarines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of reference category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Allow for importance weighting of each category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asily Implemented with &lt;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hds97.ado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Can be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used after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gres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xtreg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and coefficients calculate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Useful additional statistics calculate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lexible us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Transform a single set of dummy variable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Transform up to 50 sets of dummy variables at onc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reas of Application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Wage Differential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by: Region, Industry, Occupation, Education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Marital Status, Race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16A7-ABBA-4A5B-A7B2-2358C84AFC9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a. Background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25360"/>
            <a:ext cx="799128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-Industry Wage Differentials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Why do secretaries in the steel industry make more money than otherwise observably identical secretaries in the services industry?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Calculating „wage differentials“: Wages in steel &gt; services ?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Dummy Variables: 0 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rting Point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rueger/Summers (1988) „Efficiency Wages and the Inter-Industry Wage Structure“,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Econometric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, 56, p 259-93.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Would lik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to interpret differentials as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deviations from a weighted averag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Remove arbitrary selection of reference category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Excellent seminal paper, however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technical problem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…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Attemp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to implement Restricted Least Squares (RLS)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bu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Incorrect standard errors: t-values systematically biased downwar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Incorrect overall inference: Variation systematically biased down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3945-85E6-48E7-AE00-E429611211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b. Background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125360"/>
            <a:ext cx="770400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chnical Contribution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(in Handout)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isken-DeNew/Schmidt (1997) „Inter-Industry and Inter-Regional Differentials: Mechanics and Interpretation“,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Review of Economics and Statistic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, 79(3), p. 517-21.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How to implement Restricted Least Squares (RLS) correctly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How to implement RLS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any linear model (OLS, FE, RE…)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RLS was implemented in GAUSS, LIMDEP and Stata (crudely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w RLS is implemented in Stata in a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flexible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o &lt;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hds97.ado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What does the syntax look li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8C97-66A6-496C-939B-3C5C51FEAE4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a. RLS &lt;hds97.ado&gt; - One Dummy Set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125360"/>
            <a:ext cx="792000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a linear regression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/xtreg depvar indep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Syntax </a:t>
            </a:r>
            <a:r>
              <a:rPr b="1" lang="en-US" sz="1600" spc="-1" strike="noStrike">
                <a:solidFill>
                  <a:srgbClr val="00a4ff"/>
                </a:solidFill>
                <a:latin typeface="Arial"/>
              </a:rPr>
              <a:t>(only ONE dummy set)</a:t>
            </a:r>
            <a:br>
              <a:rPr sz="1600"/>
            </a:br>
            <a:br>
              <a:rPr sz="16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ds97 indepvars [, option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4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a4ff"/>
                </a:solidFill>
                <a:latin typeface="Arial"/>
              </a:rPr>
              <a:t>options               </a:t>
            </a:r>
            <a:r>
              <a:rPr b="1" lang="en-US" sz="1600" spc="-1" strike="noStrike">
                <a:solidFill>
                  <a:srgbClr val="00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a4ff"/>
                </a:solidFill>
                <a:latin typeface="Arial"/>
              </a:rPr>
              <a:t>     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fname( string )     a string containing the name of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the "reference" categor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name( string )    a string containing a descriptive na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for the set of dummy variables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eight( varname )     a string containing the name of th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weighting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6F09-7EA1-42EB-9212-D7C2211C75F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2b. RLS &lt;hds97.ado&gt; - Many Dummy Sets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25360"/>
            <a:ext cx="7920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a linear regression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/xtreg depvar x* Xvar_1 Zvar_1 Zvar_2 Dvar_* XXLvar_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Syntax </a:t>
            </a:r>
            <a:r>
              <a:rPr b="1" lang="en-US" sz="1600" spc="-1" strike="noStrike">
                <a:solidFill>
                  <a:srgbClr val="00a4ff"/>
                </a:solidFill>
                <a:latin typeface="Arial"/>
              </a:rPr>
              <a:t>(MANY dummy variable s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obal hds97_1   Xvar_1        Xvar_ref    descriptive_name_for_X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obal hds97_2   Zvar_1 Zvar_2 Zvar_ref    descriptive_name_for_Z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obal hds97_3   Dvar_*        Dvar_ref    descriptive_name_for_D         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obal hds97_50 XXLvar_*     XXLvar_ref    descriptive_name_for_XXL                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a4ff"/>
                </a:solidFill>
                <a:latin typeface="Courier New"/>
              </a:rPr>
              <a:t>(up to 50 globals/constraints can be s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var_1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is a regressor used in regress or xtreg previous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var_ref         is a text name for the reference categ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ve_name is a descriptive text name of the dummy 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ds97 [, weight(wgt_var_nam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A70F-E2B5-44C5-B588-F5B56CCDDD5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c. RLS &lt;hds97.ado&gt;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125360"/>
            <a:ext cx="7920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 created by &lt;hds97.ado&gt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Original Regression (OLS, RE, FE etc) repeate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Each Dummy Variable Group using RLS is calculat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rom “k-1” Dummy Variables: “k” Coefficients reporte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) Weighted Standard Deviation (Sampling Corrected) of RLS Bet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easure of overall variation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) F-Tests of Joint Significan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e the dummy variables as a group significan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) Sample Shares of each Dumm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What were the sample shares used to create the weighted avera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rom the weighted average, the deviations are calculated (see 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3960F-4763-446A-A6ED-C44E1EAC2D4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. Illustrative Example </a:t>
            </a:r>
            <a:r>
              <a:rPr b="1" lang="de-DE" sz="2800" spc="-1" strike="noStrike">
                <a:solidFill>
                  <a:srgbClr val="00a4ff"/>
                </a:solidFill>
                <a:latin typeface="Arial"/>
              </a:rPr>
              <a:t>(in Handout)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125360"/>
            <a:ext cx="7920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merican Current Population Survey (CPS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Use freely available January 2004 CPS sampl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http://www.nber.org/morg/annual/morg04.d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un simple wage regression (age 18-65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log hourly wages = f (age, gender, race, marital status, st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mmy Indicators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gender: male, femal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race: white, black, other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marital status: married, divorced, separated, singl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states: AK, AL… 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lecting arbitrary dummy variable as referenc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 Which one? Makes no difference in the calculation, just in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th RLS, interpret the dummy variables as deviations from a weighted average as opposed to an arbitrary reference categ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logged wage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, then interpretation: </a:t>
            </a:r>
            <a:r>
              <a:rPr b="1" lang="de-DE" sz="1600" spc="-1" strike="noStrike">
                <a:solidFill>
                  <a:srgbClr val="00a4ff"/>
                </a:solidFill>
                <a:latin typeface="Arial"/>
              </a:rPr>
              <a:t>%-poin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deviations from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se &lt;hds97.ado&gt; to implement R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CA1B-4FCC-4EB0-8FDE-789BCE4EE63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ample Regression Output </a:t>
            </a:r>
            <a:r>
              <a:rPr b="1" lang="en-US" sz="2800" spc="-1" strike="noStrike">
                <a:solidFill>
                  <a:srgbClr val="00a4ff"/>
                </a:solidFill>
                <a:latin typeface="Arial"/>
              </a:rPr>
              <a:t>(in Handout)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125360"/>
            <a:ext cx="7920000" cy="51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1" lang="de-DE" sz="1200" spc="-1" strike="noStrike">
                <a:solidFill>
                  <a:srgbClr val="669900"/>
                </a:solidFill>
                <a:latin typeface="Courier New"/>
              </a:rPr>
              <a:t>regress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lhw age genderm raceb raceo msmar msdiv mssep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Source |       SS       df       MS              Number of obs =    8417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-------------+------------------------------           F(  7,  8409) =  181.36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Model |  242.712792     7   34.673256           Prob &gt; F      =  0.0000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Residual |  1607.68867  8409  .191186665           R-squared     =  0.1312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-------------+------------------------------           Adj R-squared =  0.1304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Total |  1850.40146  8416  .219867093           Root MSE      =  .43725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lhw |      Coef.   Std. Err.      t    P&gt;|t|     [95% Conf. Interval]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-------------+---------------------------------------------------------------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  age |     .00861   .0004585    18.78   0.000     .0077112    .0095088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genderm |   .1737988   .0095849    18.13   0.000     .1550101    .1925876    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raceb |  -.0730053   .0162526    -4.49   0.000    -.1048645   -.0411462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raceo |  -.0131488   .0193254    -0.68   0.496    -.0510315    .0247338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msmar |   .1365145   .0125807    10.85   0.000     .1118532    .1611758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msdiv |   .1014927   .0180303     5.63   0.000     .0661489    .1368365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mssep |   .0237369   .0341694     0.69   0.487    -.0432435    .0907174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    _cons |     6.5783    .016593   396.45   0.000     6.545774    6.610826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1" lang="de-DE" sz="1600" spc="-1" strike="noStrike">
                <a:solidFill>
                  <a:srgbClr val="669900"/>
                </a:solidFill>
                <a:latin typeface="Courier New"/>
              </a:rPr>
              <a:t>global  hds97_1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genderm </a:t>
            </a:r>
            <a:r>
              <a:rPr b="1" lang="de-DE" sz="1600" spc="-1" strike="noStrike">
                <a:solidFill>
                  <a:srgbClr val="ff0000"/>
                </a:solidFill>
                <a:latin typeface="Courier New"/>
              </a:rPr>
              <a:t>genderf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de-DE" sz="1600" spc="-1" strike="noStrike">
                <a:solidFill>
                  <a:srgbClr val="00a4ff"/>
                </a:solidFill>
                <a:latin typeface="Courier New"/>
              </a:rPr>
              <a:t>gender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1" lang="de-DE" sz="1600" spc="-1" strike="noStrike">
                <a:solidFill>
                  <a:srgbClr val="669900"/>
                </a:solidFill>
                <a:latin typeface="Courier New"/>
              </a:rPr>
              <a:t>global  hds97_2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raceb   raceo   </a:t>
            </a:r>
            <a:r>
              <a:rPr b="1" lang="de-DE" sz="1600" spc="-1" strike="noStrike">
                <a:solidFill>
                  <a:srgbClr val="ff0000"/>
                </a:solidFill>
                <a:latin typeface="Courier New"/>
              </a:rPr>
              <a:t>racew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de-DE" sz="1600" spc="-1" strike="noStrike">
                <a:solidFill>
                  <a:srgbClr val="00a4ff"/>
                </a:solidFill>
                <a:latin typeface="Courier New"/>
              </a:rPr>
              <a:t>race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1" lang="de-DE" sz="1600" spc="-1" strike="noStrike">
                <a:solidFill>
                  <a:srgbClr val="669900"/>
                </a:solidFill>
                <a:latin typeface="Courier New"/>
              </a:rPr>
              <a:t>global  hds97_3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msmar   msdiv   mssep   </a:t>
            </a:r>
            <a:r>
              <a:rPr b="1" lang="de-DE" sz="1600" spc="-1" strike="noStrike">
                <a:solidFill>
                  <a:srgbClr val="ff0000"/>
                </a:solidFill>
                <a:latin typeface="Courier New"/>
              </a:rPr>
              <a:t>mssgl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a4ff"/>
                </a:solidFill>
                <a:latin typeface="Courier New"/>
              </a:rPr>
              <a:t>marital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1" lang="de-DE" sz="1600" spc="-1" strike="noStrike">
                <a:solidFill>
                  <a:srgbClr val="669900"/>
                </a:solidFill>
                <a:latin typeface="Courier New"/>
              </a:rPr>
              <a:t>hds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5640" y="6021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236000" y="558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602136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Name of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03640" y="5516640"/>
            <a:ext cx="1081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858920" y="5013360"/>
            <a:ext cx="144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03640" y="5229360"/>
            <a:ext cx="144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A7DF-98FC-472A-8414-A1A0BD57B46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457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720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a. Gender (2-Way)</a:t>
            </a:r>
            <a:endParaRPr b="1" lang="en-US" sz="2800" spc="-1" strike="noStrike">
              <a:solidFill>
                <a:srgbClr val="00005c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1341360"/>
          <a:ext cx="741024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741024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002200" y="3855960"/>
            <a:ext cx="2809800" cy="4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83120" y="2227320"/>
            <a:ext cx="0" cy="32097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68640" y="2284560"/>
            <a:ext cx="0" cy="32097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44FD-B899-4527-B0AB-C4D347EFC1A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March 31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8:09:38Z</dcterms:created>
  <dc:creator>PC29</dc:creator>
  <dc:description/>
  <dc:language>en-US</dc:language>
  <cp:lastModifiedBy>haisken</cp:lastModifiedBy>
  <dcterms:modified xsi:type="dcterms:W3CDTF">2006-03-30T22:27:07Z</dcterms:modified>
  <cp:revision>365</cp:revision>
  <dc:subject/>
  <dc:title>Folie 1</dc:title>
</cp:coreProperties>
</file>