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8AC-DFF0-441C-B8C6-796A2AF8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789-C0C9-42AE-970B-DEB7F470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2BB-E3B9-45F3-8994-292FF4FB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62D-3922-4A06-BD12-F0DF9EEC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5B2-5FC2-4C48-8A33-ADCF7E9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C21-5868-465F-9DBB-66ED92B2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DAC-E69F-4F67-9D8A-13E36BBF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E5F-BD03-47BA-9FAB-7F4A80D8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A6E-D927-404F-BAF6-F5AE24E0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E8D-1E8F-4589-AFED-0D5F9D55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0BB-DDAA-4FF3-826B-E659D0A9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6E0-0D98-4DAC-A80A-38F3CF8E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9BA9-01CD-4DEF-8165-B665748ADA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th@medizin.uni-leipzig.de" TargetMode="External"/><Relationship Id="rId2" Type="http://schemas.openxmlformats.org/officeDocument/2006/relationships/hyperlink" Target="mailto:math@medizin.uni-leipzig.de" TargetMode="External"/><Relationship Id="rId3" Type="http://schemas.openxmlformats.org/officeDocument/2006/relationships/hyperlink" Target="mailto:math@medizin.uni-leipzig.de" TargetMode="External"/><Relationship Id="rId4" Type="http://schemas.openxmlformats.org/officeDocument/2006/relationships/hyperlink" Target="mailto:math@medizin.uni-leipzig.de" TargetMode="External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ing IRT models with </a:t>
            </a:r>
            <a:br>
              <a:rPr sz="4000"/>
            </a:br>
            <a:r>
              <a:rPr b="1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1" i="1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gllamm</a:t>
            </a:r>
            <a:r>
              <a:rPr b="1" sz="4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8606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rbert Matsch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versity of Leipzig – Department für Psychia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th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edizin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uni-leipzig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52480"/>
            <a:ext cx="914400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cept (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β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em1 ;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3.528638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043579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em2 ;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5.576689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06152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em3 ;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3.851309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045826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em4 ;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1.809436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033516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em5 ;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4.449809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050426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(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    =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.4802599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165659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og likelihood = -31545.6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for all 6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llamm eurod item1-item5, nocons link(logit) fam(bin) i(pattern) w(wt) adapt 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llapred raschu,u         -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1800" spc="-1" strike="noStrike">
                <a:solidFill>
                  <a:srgbClr val="000000"/>
                </a:solidFill>
                <a:latin typeface="바탕"/>
              </a:rPr>
              <a:t>posterior mean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eans and standard deviations will be stored i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schum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raschu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n-adaptive log-likelihood: -31522.3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3.155e+04 -3.155e+04 -3.155e+04 -3.155e+04 -3.155e+0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-likelihood:-31545.6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llapred raschmu,mu      -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1800" spc="-1" strike="noStrike">
                <a:solidFill>
                  <a:srgbClr val="000000"/>
                </a:solidFill>
                <a:latin typeface="바탕"/>
              </a:rPr>
              <a:t>response probabiliti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mu will be stored i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schm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n-adaptive log-likelihood: -31522.3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3.155e+04 -3.155e+04 -3.155e+04 -3.155e+04 -3.155e+0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-likelihood:-31545.6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gr7  raschmu raschum1,s([item]) t2("1 - Parameter No Differential Item Functioning - no country effect") ylab(0(0.1)1) yline(.5) psize(120)  xline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2 – Parameter (Birnbaum)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066680"/>
            <a:ext cx="914400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q discrim: item1-item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lamm eurod item1-item5, nocons link(logit) fam(bin) i(pattern) w(wt)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qs(discrim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dapt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(b)[1,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urod:           eurod:    eurod:           eurod:          eurod:         pat1_1l:         pat1_1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tem1           item2          item3          item4           item5           item2            ite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y1  -4.8818004   -8.507911  -7.8598477  -1.6312255  -2.9198215   1.1467799    1.5628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t1_1l:       pat1_1l:      </a:t>
            </a: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pat1_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tem4          item5          </a:t>
            </a: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ite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y1   .55341432   .27273694   </a:t>
            </a: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3.80737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straint def 1 [pat1_1]item1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lamm eurod item1-item5, nocons link(logit) fam(bin) i(pattern) w(wt) constr(1) frload(1)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qs(discrim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dapt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2 - Parameter Mode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762120"/>
            <a:ext cx="864216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cept         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1 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-4.885114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14925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2 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-8.501162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337024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3 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-7.840406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393996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4 ;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-1.630332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035047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m5 ;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-2.919229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03945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(1): 1 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adings for random effec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1: 3.8137476 (.134784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2: 4.3643911 (.20426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3: 5.9397444 (.323116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4: 2.1078878 (.050104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5: 1.0385574 (.036383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L = -30547.2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gr7 intmu intum1  ,s([item]) t2("2 - Parameter No Differential Item Functioning - no country effect") ylab(0(0.1)1) yline(.5) psize(12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1 –Parameter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ode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l / effect on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erate two sets of indicator variables for two different referenc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stimate the model twice for different referenc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pare the two results with respect to the differences of the fixed parameters (item difficul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600200"/>
            <a:ext cx="8991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ar countryn[omit] 1 o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ar countryn[omit] 2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xi3:eq f1:  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llamm eurod  item1 item2 item3 item4 item5,link(logit) fam(bin) adapt dot i(pattern) w(wt) nocons geqs(f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1 –Parameter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ode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l / effect on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638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Caveat:</a:t>
            </a: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The output does not tell you </a:t>
            </a:r>
            <a:r>
              <a:rPr b="1" i="1" lang="de-DE" sz="2400" spc="-1" strike="noStrike">
                <a:solidFill>
                  <a:srgbClr val="ff3300"/>
                </a:solidFill>
                <a:latin typeface="Arial"/>
              </a:rPr>
              <a:t>what</a:t>
            </a: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 contrast you have </a:t>
            </a: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1 –Parameter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ode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l effect on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θ (reference group is Belgium (1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600200"/>
            <a:ext cx="914400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cept (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β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ffect         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erence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1 |  -3.510938   .0803299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nce               .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54711696  (.09492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2 |   -5.55874   .0912916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y           -.11129763 (.09314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3 |  -3.833834   .0815657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aly                   -.19944865 (.0886822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4 |  -1.788838   .0753648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therlands       .14494306 (.100888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5 |  -4.432465   .0842277   Spa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-.21903409 (.086721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(1): 6.4690974 (.165570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L =    -31485.737                                                                                  </a:t>
            </a:r>
            <a:r>
              <a:rPr b="0" lang="de-DE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1 –Parameter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ode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l effect on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Arial"/>
              </a:rPr>
              <a:t>θ (reference group is France (2)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00200"/>
            <a:ext cx="91440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cept (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β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ffect         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erence 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1 |   -2.96341   .0696799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lgium            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-.54803974 (.09490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2 |   -5.01124   .081306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y           -.65890334 (.086209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3 |   -3.28631   .070936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aly                   -.74705435 (.081428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4 |   -1.24127   .0651058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therlands       -.40267533 (.09432633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5 |   -3.88495   .0737165   Spa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-.76663319 (.0793843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(1): 6.4690974 (.165570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L =    -31485.7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-Related Quality Of Life” (HRQOL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5 3 - categorical items to assess health related quality of lif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ichotomized {1} {2,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lf-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sual (Daily)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in/discom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xiety/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 between „fixed“ parameters (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209680"/>
            <a:ext cx="190476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2.9634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5.01123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3.2863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1.2412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3.884948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209680"/>
            <a:ext cx="533412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Belgium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3.51093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5.558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3.833834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0.548 for each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1.7888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4.4324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ystematics in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„fixed“ parameter depend on the contrast employed for the predic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„fixed“ parameter are the item difficulties for the reference category of the predi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difference in difficulties between the two estimates are the differences between the two reference categories (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These differences are the same for all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deling country differences via „fixed“ effects / effects o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„fixed“ effects depend on the reference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oose category 1 (Belgium) for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fine all possible interaction effects between the items and the 5 dummies (France to S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strain all the 5 interaction effects to be equal for each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teractions and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59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char countryn[omi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xi3: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.countryn*item1 i.countryn*item2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.countryn*item3 i.countryn*item4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.countryn*item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A in num 2/5 \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 in num 1/4:constraint def A  _Ico2Xit = _IBco2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A in num 6/9 \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 in num 1/4:constraint def A  _Ico3Xit = _IBco3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A in num 10/13 \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 in num 1/4:constraint def A  _Ico4Xit = _IBco4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A in num 14/17 \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 in num 1/4:constraint def A  _Ico5Xit = _IBco5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for A in num 18/21 \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B in num 1/4:constraint def A  _Ico6Xit = _IBco6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urier New"/>
              </a:rPr>
              <a:t>gllamm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838080"/>
            <a:ext cx="8991360" cy="60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llamm eurod item1- item5 _Ico2Xit- _I4co6Xit, link(logit) fam(bin)i(pattern) w(wt) nocons adapt dot constr(2/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llamm model with constrai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 1)  [eurod]_Ico2Xit - [eurod]_I1co2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 2)  [eurod]_Ico2Xit - [eurod]_I2co2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 3)  [eurod]_Ico2Xit - [eurod]_I3co2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 4)  [eurod]_Ico2Xit - [eurod]_I4co2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 5)  [eurod]_Ico3Xit - [eurod]_I1co3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 6)  [eurod]_Ico3Xit - [eurod]_I2co3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 7)  [eurod]_Ico3Xit - [eurod]_I3co3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 8)  [eurod]_Ico3Xit - [eurod]_I4co3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 9)  [eurod]_Ico4Xit - [eurod]_I1co4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10)  [eurod]_Ico4Xit - [eurod]_I2co4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11)  [eurod]_Ico4Xit - [eurod]_I3co4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12)  [eurod]_Ico4Xit - [eurod]_I4co4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13)  [eurod]_Ico5Xit - [eurod]_I1co5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14)  [eurod]_Ico5Xit - [eurod]_I2co5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15)  [eurod]_Ico5Xit - [eurod]_I3co5Xit = 0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16)  [eurod]_Ico5Xit - [eurod]_I4co5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17)  [eurod]_Ico6Xit - [eurod]_I1co6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18)  [eurod]_Ico6Xit - [eurod]_I2co6Xit = 0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19)  [eurod]_Ico6Xit - [eurod]_I3co6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20)  [eurod]_Ico6Xit - [eurod]_I4co6Xi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838080"/>
            <a:ext cx="83059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1 |  -3.510822   .08034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2 |  -5.558637   .0913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3 |  -3.833719   .08157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4 |  -1.788679   .075382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5 |  -4.432352   .084239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France      Ico2Xit |   .5468687   .09493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Germany     Ico3Xit |  -.1115037   .09315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aly       Ico4Xit |  -.1996552   .0887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Netherlands Ico5Xit |   .1447117   .1009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Spain       Ico6Xit |  -.2192302   .0867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4co2Xit |   .5468687   .0949383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4co3Xit |  -.1115037   .09315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4co4Xit |  -.1996552   .0887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4co5Xit |   .1447117   .1009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4co6Xit |  -.2192302   .0867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121932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38"/>
                </a:lnTo>
                <a:cubicBezTo>
                  <a:pt x="10800" y="10138"/>
                  <a:pt x="5400" y="11038"/>
                  <a:pt x="0" y="11038"/>
                </a:cubicBezTo>
                <a:cubicBezTo>
                  <a:pt x="5400" y="11038"/>
                  <a:pt x="10800" y="11938"/>
                  <a:pt x="10800" y="128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76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5105520"/>
            <a:ext cx="380880" cy="1371600"/>
          </a:xfrm>
          <a:custGeom>
            <a:avLst/>
            <a:gdLst>
              <a:gd name="textAreaLeft" fmla="*/ 0 w 380880"/>
              <a:gd name="textAreaRight" fmla="*/ 13752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048120"/>
            <a:ext cx="380880" cy="1295280"/>
          </a:xfrm>
          <a:custGeom>
            <a:avLst/>
            <a:gdLst>
              <a:gd name="textAreaLeft" fmla="*/ 0 w 380880"/>
              <a:gd name="textAreaRight" fmla="*/ 13752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5638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em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(1)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6.4695502 (.16557072)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L= -31485.71012285193</a:t>
            </a:r>
            <a:br>
              <a:rPr sz="2000"/>
            </a:br>
            <a:br>
              <a:rPr sz="20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mpare with results from slide </a:t>
            </a:r>
            <a:r>
              <a:rPr b="0" lang="de-DE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6483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Arial"/>
              </a:rPr>
              <a:t>These two models are equal ! Both models assume equal item functioning with respect to country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deling country differences without constraints on „fixed“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sults for a model without these 20 constraints are completely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L = -3115  compared to –31484  df(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viations from Belgium are different for each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tem-difficulties are heterogeneous with respect to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990720"/>
            <a:ext cx="9144000" cy="63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1 |  -3.510822   .08034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2 |  -5.558637   .0913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3 |  -3.833719   .08157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4 |  -1.788679   .075382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5 |  -4.432352   .084239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France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co2Xit |   .2672621   .136066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Germany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co3Xit |   .4485834   .13013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aly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co4Xit |  -.3667433   .12849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Netherlands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co5Xit |  -.1668095   .147459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Spain  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co6Xit |   .1085338   .1225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France 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1co2Xit |   .1939196   .18980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Germany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1co3Xit |  -.6497205   .195467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aly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1co4Xit |  -.3702901   .17878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Netherlands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1co5Xit |  -.2827915   .20757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Spain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1co6Xit |  -.1267169   .16995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137160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320040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5029200"/>
            <a:ext cx="380880" cy="1295280"/>
          </a:xfrm>
          <a:custGeom>
            <a:avLst/>
            <a:gdLst>
              <a:gd name="textAreaLeft" fmla="*/ 0 w 380880"/>
              <a:gd name="textAreaRight" fmla="*/ 13752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24680" y="3657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24680" y="548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Study of the Epidemiology of Mental Disorders (ESEMeD)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2001  - 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N  = 214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lgium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4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8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35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47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Netherland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3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in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54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sults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66680"/>
            <a:ext cx="9144000" cy="54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France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2co2Xit |  -.2079065    .1411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Germany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2co3Xit |  -.4445011   .137367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aly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2co4Xit |    -.51551   .13042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Netherlands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2co5Xit |   .1836286   .14481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Spain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2co6Xit |  -.1787188   .12473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France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3co2Xit |   .6728065   .115608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Germany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3co3Xit |  -.0709686   .11382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aly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3co4Xit |  -.1572684   .10809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Netherlands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3co5Xit |   .5405529   .122269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Spain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3co6Xit |  -.5646274   .10673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France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4co2Xit |   1.640549   .151148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Germany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4co3Xit |  -.7005679   .17004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aly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4co4Xit |   .4469239   .147823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Netherlands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4co5Xit |  -.9392069    .19603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Spain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4co6Xit |   .1914548   .146118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137160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304812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6483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7240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te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0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tem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tem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2 –Parameter Mode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effect o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w we choose the </a:t>
            </a:r>
            <a:r>
              <a:rPr b="1" lang="de-DE" sz="2800" spc="-1" strike="noStrike">
                <a:solidFill>
                  <a:srgbClr val="ff3300"/>
                </a:solidFill>
                <a:latin typeface="Courier New"/>
              </a:rPr>
              <a:t>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– contrast of </a:t>
            </a:r>
            <a:r>
              <a:rPr b="1" lang="de-DE" sz="2800" spc="-1" strike="noStrike">
                <a:solidFill>
                  <a:srgbClr val="ff3300"/>
                </a:solidFill>
                <a:latin typeface="Courier New"/>
              </a:rPr>
              <a:t>xi3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model was estimated tw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ference category 6 (Spa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Courier New"/>
              </a:rPr>
              <a:t>char countryn[omit]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ference category 1 (Belg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Courier New"/>
              </a:rPr>
              <a:t>char countryn[omit]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ixed“ effects keep virtual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adings“ keep almost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effect for the reference category is the negativ sum of all the oth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066680"/>
            <a:ext cx="914400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xi3:eq f1: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q discrim: item1-item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traint def </a:t>
            </a:r>
            <a:r>
              <a:rPr b="1" lang="de-DE" sz="32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[pat1_1]item1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llamm eurod  item1 item2 item3 item4 item5,link(logit)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m(bin) adapt dot i(pattern) w(wt) nocons geqs(f1)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qs(discrim) constr(</a:t>
            </a:r>
            <a:r>
              <a:rPr b="1" lang="de-DE" sz="32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) frload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llapred birncontu,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ans and standard deviations will be stored i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rncontum1 birncontu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llapred birncontmu,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u will be stored in birncontm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2 –Parameter Mode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effect o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2 –Parameter Mode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effect o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74880"/>
            <a:ext cx="91440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cept      SE                                        Loading        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 1:  -4.801975   .1460378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tem 1: 3.8015702  .133335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 2:  -8.457937   .3378112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tem 2: 4.3896022  .206755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 3:  -7.658351   .3787267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tem 3: 5.8764124  .314381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 4:  -1.599355   .0351327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tem 4: 2.1281491  .050627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tem 5:  -2.903158   .039247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tem 5: 1.0433228  .036423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viation      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) Belgium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00116297    .024904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L=-305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2) France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13703951    .02336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3) Germany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.02622923    .02120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4) Italy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.10642868    .01964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5) Netherland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06823874    .025293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6) Spai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.07378098    .01813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r7    birncontmu birncontum1 ,s([countryn]) ylab(0(0.1)1) yline(0.5) t1("2 - Parameter No Differential Item Functioning -  effect o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 theta</a:t>
            </a:r>
            <a:r>
              <a:rPr b="0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") xline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L für 1-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 2-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arameter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600200"/>
          <a:ext cx="9144000" cy="4525920"/>
        </p:xfrm>
        <a:graphic>
          <a:graphicData uri="http://schemas.openxmlformats.org/drawingml/2006/table">
            <a:tbl>
              <a:tblPr/>
              <a:tblGrid>
                <a:gridCol w="2514600"/>
                <a:gridCol w="3276720"/>
                <a:gridCol w="335268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- Param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Parame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g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76.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455.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83.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87.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911.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795.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485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221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er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428.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31.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603.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415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IF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or difficulties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i-contr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600200"/>
            <a:ext cx="91440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xi3: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.countryn*item1 i.countryn*item2 i.countryn*item3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.countryn*item4 i.countryn*item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.countryn        _Icountryn_1-6      (naturally coded; _Icountryn_1 omit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recognized command:  _Icountryn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(19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llamm eurod item1-item5 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_Ico2Xit- _I4co6Xi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, nocon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nk(logit) fam(bin) i(pattern) w(wt) constr(2)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load(1)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qs(discrim) adapt 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Caveat:</a:t>
            </a: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You will never know later on what contrast you have </a:t>
            </a: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ff3300"/>
                </a:solidFill>
                <a:latin typeface="Arial"/>
              </a:rPr>
              <a:t>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286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676520"/>
            <a:ext cx="6705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      Coef.   Std. Er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+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tem1 |  -5.060236   .20462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tem2 |  -8.197401   .37213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tem3 |  -7.625611   .450316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tem4 |  -1.636369     .080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tem5 |  -3.142707   .094226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52388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      Coef.   Std. Er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+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co2Xit |   .3273206   .1845059 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co3Xit |   .6340536   .1725151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co4Xit |  -.4935873   .1723957 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co5Xit |  -.1209027   .1988732 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co6Xit |   .1167805   .1615509  Sp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52388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      Coef.   Std. Er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+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1co2Xit |   .2694966   .2662902 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1co3Xit |  -.8450162   .2730304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1co4Xit |  -.6450119   .2538839 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1co5Xit |  -.2683981   .2922587 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1co6Xit |  -.2463331   .2377217 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o these 5 items measure one single dimensi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 the sum of endorsements a sufficient statistic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o the item parameters differ between countri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o the discrimination parameters differ between countri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ow much dimensions should be assu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52388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      Coef.   Std. Er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+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2co2Xit |  -.4286408   .2792733 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2co3Xit |  -.780114    .2661109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2co4Xit |  -1.038312   .2641851 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2co5Xit |   .5058603   .2947703 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2co6Xit |  -.3856712   .2397361 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52388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      Coef.   Std. Er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+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3co2Xit |    .607621   .1018758 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3co3Xit |   -.053771   .0992247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3co4Xit |  -.1220413   .0946785 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3co5Xit |   .4768741   .1079205 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3co6Xit |  -.5042381   .0935174 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52388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      Coef.   Std. Er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+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4co2Xit |   1.061981   .1076839 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4co3Xit |  -.4796974   .1252521 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4co4Xit |   .3253115   .1061347 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4co5Xit |  -.6806979   .1476796 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_I4co6Xit |   .1797599    .104995 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143000"/>
            <a:ext cx="87631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***level 2 (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(1): 1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em1: 3.8973286 (.141433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em2: 4.3660867 (.204706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em3: 6.1098725 (.352128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em4: 2.1373606 (.050837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em5: 1.0655632 (.037392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loadings for random effect 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IF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or difficulties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i-contrast) LL=-30161.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762120"/>
          <a:ext cx="9144000" cy="6095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371600"/>
                <a:gridCol w="1859040"/>
                <a:gridCol w="134136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g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her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60236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2732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340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49358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20902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16780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.197401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6949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845016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64501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683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4633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625611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42864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780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38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0586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3856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3636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076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0537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220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47687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5042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142707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1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4796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253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68069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797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609560"/>
                <a:tab algn="l" pos="3051000"/>
                <a:tab algn="l" pos="4392720"/>
                <a:tab algn="l" pos="5465880"/>
                <a:tab algn="l" pos="708660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i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giu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Netherland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giu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Spain    Netherland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giu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i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Fra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gium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Germa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ai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Belgium      Germa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Random Intercept 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81952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2 sets of predictors 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1) X – fixed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2) Z – random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575320"/>
            <a:ext cx="9067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 Boeck,P. and Wilson,M. (2004).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loratory Item Response Models: 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ear and Nonlinear Approa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New York, Berlin:  Spri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7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878120" y="1295280"/>
          <a:ext cx="538632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8120" y="1295280"/>
                    <a:ext cx="53863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DIF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or difficulty and discrimin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i-contr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28800"/>
            <a:ext cx="9144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q discrimc: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tem1-item5 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_Ico2Xit- _I4co6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llamm eurod   item1- item5  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_Ico2Xit- _I4co6Xi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, link(logit)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m(bin) i(id) eqs(discrimc) constr(2) frload(1) w(wt)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cons adapt 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2286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471680"/>
            <a:ext cx="6705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|   Coef.   Std. Er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------+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tem1: 2.9217353 (.39551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tem2: 3.5756061 (.410362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tem3: 6.6334026 (.869592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tem4: 2.0837394 (.142337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item5: .95331206 (.1128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iscrimination for 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752480"/>
            <a:ext cx="7696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co2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.97672244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.46282706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co3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.1483436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.53854614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co4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1.1158482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.60224724) 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co5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.32108006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.66483885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co6Xit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00363324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.47251395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75248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1co2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.05795306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57767685) 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1co3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.7968796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7296182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1co4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1.710382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73387108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1co5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1.037476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86778915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1co6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1.178677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5917116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75248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2co2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1.686269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1.0787816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2co3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1.221571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1.1674393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2co4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.1217856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1.1594229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2co5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-2.544502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1.0072729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2co6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.760563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1.2962747)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75248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3co2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.2087307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21891064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3co3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.0512562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18909945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3co4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.0786898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18044014) 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3co5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.1277663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20528291)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3co6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.1526269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17397662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75248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4co2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-.3214976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13368081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4co3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.1357482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15949164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4co4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.1882976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13714607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4co5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.1496976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18109017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_I4co6X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.5067328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.13977853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 2- Parameter 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514600"/>
            <a:ext cx="80769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i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=    log(π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/(1-π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t[Pr(y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p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1;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     =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- β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+  θ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random intercept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ixe Effekte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-β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t[Pr(y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p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1;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     =     -β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+     λ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t[Pr(y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p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1;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     =    X´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+ θ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X´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219320"/>
          <a:ext cx="411012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4110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95880" y="4419720"/>
          <a:ext cx="114300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419720"/>
                    <a:ext cx="1143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5 Items of the HRQOL do not portray one single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xiety/Depression measures a different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y means of the precommands </a:t>
            </a: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xi3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const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many IRT models can be specified quite easi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gllamm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s a perfect tool for specifying IRT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eparation of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gen pattern = group(eurod1-eurod5 country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3300"/>
                </a:solidFill>
                <a:latin typeface="Arial"/>
              </a:rPr>
              <a:t>drop if pattern ==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tract eurod1-eurod5 countryn pattern,f(w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hape long eurod,i(pattern)j(i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 num 1/5:gen itemX=0 \ replace itemX=1 if item ==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tructure of the data (long forma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295280"/>
          <a:ext cx="9144000" cy="5311800"/>
        </p:xfrm>
        <a:graphic>
          <a:graphicData uri="http://schemas.openxmlformats.org/drawingml/2006/table">
            <a:tbl>
              <a:tblPr/>
              <a:tblGrid>
                <a:gridCol w="1295280"/>
                <a:gridCol w="73656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2133720"/>
          <a:ext cx="9144000" cy="3105000"/>
        </p:xfrm>
        <a:graphic>
          <a:graphicData uri="http://schemas.openxmlformats.org/drawingml/2006/table">
            <a:tbl>
              <a:tblPr/>
              <a:tblGrid>
                <a:gridCol w="3809880"/>
                <a:gridCol w="2667240"/>
                <a:gridCol w="2666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26 / 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3 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98 / 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1 /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63 / 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4 / 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/discomf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85 / 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3 /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/De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4 / 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4 /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6:53:34Z</dcterms:created>
  <dc:creator>Dr. Herbert Matschinger</dc:creator>
  <dc:description/>
  <dc:language>en-US</dc:language>
  <cp:lastModifiedBy>Herbert Matschinger</cp:lastModifiedBy>
  <dcterms:modified xsi:type="dcterms:W3CDTF">2006-05-08T13:16:54Z</dcterms:modified>
  <cp:revision>206</cp:revision>
  <dc:subject/>
  <dc:title>Folie 1</dc:title>
</cp:coreProperties>
</file>