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5760" y="914400"/>
            <a:ext cx="6941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Logo%20blau%2025mm" descr=""/>
          <p:cNvPicPr/>
          <p:nvPr/>
        </p:nvPicPr>
        <p:blipFill>
          <a:blip r:embed="rId2"/>
          <a:stretch/>
        </p:blipFill>
        <p:spPr>
          <a:xfrm>
            <a:off x="7543800" y="455760"/>
            <a:ext cx="1143000" cy="6188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5760" y="6326280"/>
            <a:ext cx="823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5760" y="6402240"/>
            <a:ext cx="625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New Tools for Evaluating the Results of Cluster 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0120" y="6402240"/>
            <a:ext cx="108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fld id="{EC2B7FD8-C637-448E-B866-8A7E93A39D17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2538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203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4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240" indent="-20304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240" indent="-20304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240" indent="-20304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dddd"/>
            </a:gs>
            <a:gs pos="50000">
              <a:srgbClr val="3333cc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54040"/>
            <a:ext cx="822960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107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Arial"/>
              </a:rPr>
              <a:t>New Too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7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Arial"/>
              </a:rPr>
              <a:t>for Evaluating the Resul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7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Arial"/>
              </a:rPr>
              <a:t>of Cluster Analys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Hilde Schaep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Higher Education Information System (HIS), Hannover/German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schaeper@his.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6680" y="455760"/>
            <a:ext cx="723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urth German Stata Users Group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56840" y="6402240"/>
            <a:ext cx="8234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55400" y="839880"/>
            <a:ext cx="6941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blau%2025mm" descr=""/>
          <p:cNvPicPr/>
          <p:nvPr/>
        </p:nvPicPr>
        <p:blipFill>
          <a:blip r:embed="rId1"/>
          <a:stretch/>
        </p:blipFill>
        <p:spPr>
          <a:xfrm>
            <a:off x="7543800" y="399960"/>
            <a:ext cx="1143000" cy="61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6200" y="6402240"/>
            <a:ext cx="807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500" spc="-1" strike="noStrike">
                <a:solidFill>
                  <a:srgbClr val="3333cc"/>
                </a:solidFill>
                <a:latin typeface="Arial"/>
              </a:rPr>
              <a:t>Mannheim, March 31st,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ree" descr=""/>
          <p:cNvPicPr/>
          <p:nvPr/>
        </p:nvPicPr>
        <p:blipFill>
          <a:blip r:embed="rId1"/>
          <a:stretch/>
        </p:blipFill>
        <p:spPr>
          <a:xfrm>
            <a:off x="582480" y="1125360"/>
            <a:ext cx="7799400" cy="519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dend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4952880"/>
            <a:ext cx="7031160" cy="1295640"/>
            <a:chOff x="1143000" y="4952880"/>
            <a:chExt cx="7031160" cy="1295640"/>
          </a:xfrm>
        </p:grpSpPr>
        <p:sp>
          <p:nvSpPr>
            <p:cNvPr id="94" name=""/>
            <p:cNvSpPr/>
            <p:nvPr/>
          </p:nvSpPr>
          <p:spPr>
            <a:xfrm>
              <a:off x="1143000" y="5181480"/>
              <a:ext cx="198108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5181480"/>
              <a:ext cx="22860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5181480"/>
              <a:ext cx="13716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54840" y="4952880"/>
              <a:ext cx="1219320" cy="1295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2520" y="611280"/>
            <a:ext cx="5796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hierarchical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6040" y="17524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isual) inspection of the fusion/agglomeration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drogram (official Stata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ree diagram (easy to produ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lomeration schedule (new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6040" y="40384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stical measures/tests for the number of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da’s and Hart’s stopping rule/Cal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ński’s and Harabasz’s stopping rule (official Stata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jena’s stopping rules (new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2520" y="611280"/>
            <a:ext cx="6253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Stata’s stopping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8520" y="1066680"/>
            <a:ext cx="3809880" cy="5572080"/>
            <a:chOff x="398520" y="1066680"/>
            <a:chExt cx="3809880" cy="5572080"/>
          </a:xfrm>
        </p:grpSpPr>
        <p:sp>
          <p:nvSpPr>
            <p:cNvPr id="105" name=""/>
            <p:cNvSpPr/>
            <p:nvPr/>
          </p:nvSpPr>
          <p:spPr>
            <a:xfrm>
              <a:off x="398520" y="1295280"/>
              <a:ext cx="3809880" cy="53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---------------------------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       |  Calinski/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Number of  |  Harabasz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clusters   |  pseudo-F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-------------+-------------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2      |   277,39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3      |   239,32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4      |   254,86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5      |   228,46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6      |   210,01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7      |   197,16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8      |   189,27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 9      |   183,03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0      |   176,34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1      |   171,95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2      |   167,85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3      |   164,64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4      |   162,64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5      |   161,78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---------------------------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7840" y="1066680"/>
              <a:ext cx="34290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66720" indent="-666720">
                <a:lnSpc>
                  <a:spcPct val="120000"/>
                </a:lnSpc>
                <a:tabLst>
                  <a:tab algn="l" pos="0"/>
                  <a:tab algn="l" pos="285840"/>
                  <a:tab algn="l" pos="38088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he Cali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ński and Harabasz 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459160" y="3112920"/>
            <a:ext cx="82872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11560" y="1066680"/>
            <a:ext cx="4876920" cy="5790960"/>
            <a:chOff x="4111560" y="1066680"/>
            <a:chExt cx="4876920" cy="5790960"/>
          </a:xfrm>
        </p:grpSpPr>
        <p:sp>
          <p:nvSpPr>
            <p:cNvPr id="109" name=""/>
            <p:cNvSpPr/>
            <p:nvPr/>
          </p:nvSpPr>
          <p:spPr>
            <a:xfrm>
              <a:off x="4111560" y="1285920"/>
              <a:ext cx="4876920" cy="55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--------------------------------------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Number  |         Duda/Hart     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of    |             |  pseudo 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clusters | Je(2)/Je(1) |  T-squared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----------+-------------+-------------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1    |   0,7418    |   277,39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2    |   0,7094    |   192,14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3    |   0,6606    |   167,46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4    |   0,6393    |    91,42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5    |   0,7744    |    76,93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6    |   0,7798    |    57,31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7    |   0,7183    |    72,95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8    |   0,7640    |    50,05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 9    |   0,5660    |    81,29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0    |   0,7380    |    42,61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1    |   0,5678    |    61,64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2    |   0,7669    |    42,26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3    |   0,6579    |    41,09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4    |   0,7274    |    36,73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|    15    |   0,5697    |    46,82    |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+--------------------------------------+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1066680"/>
              <a:ext cx="34290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666720" indent="-666720">
                <a:lnSpc>
                  <a:spcPct val="120000"/>
                </a:lnSpc>
                <a:tabLst>
                  <a:tab algn="l" pos="0"/>
                  <a:tab algn="l" pos="285840"/>
                  <a:tab algn="l" pos="38088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he Duda and Hart</a:t>
              </a:r>
              <a:r>
                <a:rPr b="0" lang="en-GB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856120" y="3787920"/>
            <a:ext cx="2440080" cy="1698120"/>
            <a:chOff x="5856120" y="3787920"/>
            <a:chExt cx="2440080" cy="1698120"/>
          </a:xfrm>
        </p:grpSpPr>
        <p:grpSp>
          <p:nvGrpSpPr>
            <p:cNvPr id="112" name=""/>
            <p:cNvGrpSpPr/>
            <p:nvPr/>
          </p:nvGrpSpPr>
          <p:grpSpPr>
            <a:xfrm>
              <a:off x="5856120" y="3787920"/>
              <a:ext cx="2440080" cy="304560"/>
              <a:chOff x="5856120" y="3787920"/>
              <a:chExt cx="244008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5856120" y="378792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467480" y="378792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56120" y="4267080"/>
              <a:ext cx="2440080" cy="304560"/>
              <a:chOff x="5856120" y="4267080"/>
              <a:chExt cx="2440080" cy="304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856120" y="426708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67480" y="426708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56120" y="5181480"/>
              <a:ext cx="2440080" cy="304560"/>
              <a:chOff x="5856120" y="5181480"/>
              <a:chExt cx="24400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5856120" y="518148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67480" y="5181480"/>
                <a:ext cx="828720" cy="3045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2520" y="611280"/>
            <a:ext cx="6253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Mojena’s stopping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6040" y="12175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s that the agglomeration levels are normally distributed with a particular mean and standard dev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s at level k whether level k+1 comes from the aforementioned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ggests the choice of the k-cluster solution when the null hypothesis has to be reject-ed for the first time (i. e. when a sharp increase/decrease of the fusion levels occ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6040" y="341640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 I mod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s that the agglomeration levels 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up to level 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normally 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6040" y="43750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odel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umes that the agglomeration levels up to step k can be described by a linear re-gre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s at level k whether the fusion value of level k+1 equals the predicte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ggests to set the number of clusters equal to k when the null hypothesis has to be rejected for the firs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Mojena’s stopping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6040" y="18273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uster stop [clname], rule(mojena) [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las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eps(#)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m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onl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6040" y="13701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6040" y="25891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uster stop, rule(mojena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alculates Mojena’s test statistics (Mojena I, Mojena I modified, and Mojena II) for determining the number of clusters of hierarchical agglomerative clustering methods and the corresponding signifi-cance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ddition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la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eps(#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es the number of steps to be disp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onl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sed to suppress the calculation of Mojena I modified and Mojena 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Mojena’s stopping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1432080"/>
            <a:ext cx="88390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o. of       Mojena I          Mojena I mod.        Mojena I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tage  clusters     t        p          t        p          t        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8        1          .       .           .       .           .    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7        2    22,9003  0,0000     39,2306  0,0000     38,8261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6        3    10,3453  0,0000     22,8581  0,0000     22,4229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5        4    10,1152  0,0000     36,7300  0,0000     36,1526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4        5     3,8851  0,0001     16,4988  0,0000     15,8908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3        6     2,9765  0,0015     14,2385  0,0000     13,6099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2        7     2,4946  0,0064     13,2516  0,0000     12,6058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1        8     2,3117  0,0105     13,6952  0,0000     13,0275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90        9     1,9723  0,0245     12,9355  0,0000     12,2483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9       10     1,5268  0,0636     10,8525  0,0000     10,1556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8       11     1,4753  0,0703     11,3345  0,0000     10,6247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7       12     1,2607  0,1039     10,4254  0,0000      9,7065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6       13     1,1586  0,1235     10,2615  0,0000      9,5338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5       14     1,1240  0,1307     10,6825  0,0000      9,9431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784       15     1,1009  0,1356     11,3061  0,0000     10,5505  0,0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6040" y="12952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799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uster stop ward, rule(mojena) last(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17840" y="3495600"/>
            <a:ext cx="2519280" cy="304920"/>
            <a:chOff x="1617840" y="3495600"/>
            <a:chExt cx="2519280" cy="304920"/>
          </a:xfrm>
        </p:grpSpPr>
        <p:sp>
          <p:nvSpPr>
            <p:cNvPr id="136" name=""/>
            <p:cNvSpPr/>
            <p:nvPr/>
          </p:nvSpPr>
          <p:spPr>
            <a:xfrm>
              <a:off x="3308400" y="3495600"/>
              <a:ext cx="828720" cy="3049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7840" y="3527280"/>
              <a:ext cx="457200" cy="23976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partition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1828800"/>
            <a:ext cx="5421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Explained variance (Eta</a:t>
            </a:r>
            <a:r>
              <a:rPr b="1" lang="en-GB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fies to which extent a particular solution improves the solution with on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oportional reduction of errors (PRE)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s a k-cluster solution with the previous (k–1)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F-max statistic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rects for the fact that more clusters automatically result in a higher explained var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eale’s F statistic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sts the null hypothesis that a solution with k clusters is not improved by a solution with more clusters (conservative test, provides only convincing results if the clusters are well separ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32520" y="1797120"/>
            <a:ext cx="304920" cy="3440160"/>
          </a:xfrm>
          <a:custGeom>
            <a:avLst/>
            <a:gdLst>
              <a:gd name="textAreaLeft" fmla="*/ 0 w 304920"/>
              <a:gd name="textAreaRight" fmla="*/ 110160 w 304920"/>
              <a:gd name="textAreaTop" fmla="*/ 89640 h 3440160"/>
              <a:gd name="textAreaBottom" fmla="*/ 335052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3321000"/>
            <a:ext cx="19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new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6040" y="12175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Measures using the error sum of squ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960" y="5562720"/>
            <a:ext cx="49640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ali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ński’s and Harabasz’s stopping ru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568840"/>
            <a:ext cx="4964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31080" y="5562720"/>
            <a:ext cx="29718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official Stata progr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Stata’s stopping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568840"/>
            <a:ext cx="4964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6040" y="11095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43000" indent="-11430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uster analysis of 799 observations, using the kmeans partition method and squared Euclidean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95320" y="1733400"/>
            <a:ext cx="7391160" cy="4587120"/>
            <a:chOff x="895320" y="1733400"/>
            <a:chExt cx="7391160" cy="4587120"/>
          </a:xfrm>
        </p:grpSpPr>
        <p:grpSp>
          <p:nvGrpSpPr>
            <p:cNvPr id="152" name=""/>
            <p:cNvGrpSpPr/>
            <p:nvPr/>
          </p:nvGrpSpPr>
          <p:grpSpPr>
            <a:xfrm>
              <a:off x="895320" y="1733400"/>
              <a:ext cx="7391160" cy="4587120"/>
              <a:chOff x="895320" y="1733400"/>
              <a:chExt cx="7391160" cy="4587120"/>
            </a:xfrm>
          </p:grpSpPr>
          <p:sp>
            <p:nvSpPr>
              <p:cNvPr id="153" name=""/>
              <p:cNvSpPr/>
              <p:nvPr/>
            </p:nvSpPr>
            <p:spPr>
              <a:xfrm>
                <a:off x="895320" y="1733400"/>
                <a:ext cx="3581280" cy="16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3      |   322,13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5320" y="3181320"/>
                <a:ext cx="358128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4      |   274,31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05200" y="3181320"/>
                <a:ext cx="3581280" cy="16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7      |   228,73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05200" y="1733400"/>
                <a:ext cx="3581280" cy="16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6      |   252,44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5320" y="4628880"/>
                <a:ext cx="3581280" cy="16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5      |   279,87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05200" y="4628880"/>
                <a:ext cx="3581280" cy="169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       |  Calinski/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Number of  |  Harabasz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clusters   |  pseudo-F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-------------+-------------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|      8      |   210,20    |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+---------------------------+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1600200" y="2871720"/>
              <a:ext cx="2192400" cy="304920"/>
              <a:chOff x="1600200" y="2871720"/>
              <a:chExt cx="219240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963880" y="2871720"/>
                <a:ext cx="828720" cy="30492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00200" y="2903400"/>
                <a:ext cx="457200" cy="2397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00200" y="5769000"/>
              <a:ext cx="2192400" cy="304920"/>
              <a:chOff x="1600200" y="5769000"/>
              <a:chExt cx="2192400" cy="304920"/>
            </a:xfrm>
          </p:grpSpPr>
          <p:sp>
            <p:nvSpPr>
              <p:cNvPr id="163" name=""/>
              <p:cNvSpPr/>
              <p:nvPr/>
            </p:nvSpPr>
            <p:spPr>
              <a:xfrm>
                <a:off x="2963880" y="5769000"/>
                <a:ext cx="828720" cy="30492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0200" y="5800680"/>
                <a:ext cx="457200" cy="239760"/>
              </a:xfrm>
              <a:prstGeom prst="ellipse">
                <a:avLst/>
              </a:prstGeom>
              <a:noFill/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Eta</a:t>
            </a:r>
            <a:r>
              <a:rPr b="0" lang="en-GB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, PRE, F-max, Beale’s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6040" y="18273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number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varlis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max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us(#)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kmeans_option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6040" y="13701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6040" y="39607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max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us(#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required and specifies the maximum number of clusters for which cluster analyses are performed.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max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us(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for example, requests cluster analyses for two, three, and four clust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kmeans_op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y options allowed with kmeans cluster analysis except for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k(#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art(group(</a:t>
            </a:r>
            <a:r>
              <a:rPr b="0" i="1" lang="en-GB" sz="1600" spc="-1" strike="noStrike">
                <a:solidFill>
                  <a:srgbClr val="000000"/>
                </a:solidFill>
                <a:latin typeface="Courier New"/>
              </a:rPr>
              <a:t>varnam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6040" y="242424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s kmeans cluster analyses with the variables specified in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var-lis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computes Eta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PRE coefficient, the F-max statistic, Beale’s F va-lues and the corresponding p-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Eta</a:t>
            </a:r>
            <a:r>
              <a:rPr b="0" lang="en-GB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, PRE, F-max, Beale’s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6040" y="12952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799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number v1–v7, max(8) start(prandom(154698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920" y="2803680"/>
            <a:ext cx="60195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5050"/>
                </a:solidFill>
                <a:latin typeface="Courier New"/>
                <a:ea typeface="Courier New"/>
              </a:rPr>
              <a:t>Eta square, PRE coefficient, F-max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A[8,3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ta2        Pre      F-m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1          0          .         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2  ,27878797  ,27878797  308,084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3  ,44732155  ,23368104  322,1293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4  ,50863156  ,11093251  274,3101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5  ,58504803  ,15551767  279,8686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6  ,61414929  ,07013162   252,43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7  ,63407795  ,05164863  228,7325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cl_8  ,65036945  ,04452178   210,19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362320" y="4179960"/>
            <a:ext cx="1226880" cy="772920"/>
            <a:chOff x="2362320" y="4179960"/>
            <a:chExt cx="1226880" cy="772920"/>
          </a:xfrm>
        </p:grpSpPr>
        <p:sp>
          <p:nvSpPr>
            <p:cNvPr id="176" name=""/>
            <p:cNvSpPr/>
            <p:nvPr/>
          </p:nvSpPr>
          <p:spPr>
            <a:xfrm>
              <a:off x="2362320" y="4179960"/>
              <a:ext cx="1204920" cy="30456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4280" y="4648320"/>
              <a:ext cx="1204920" cy="30456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03600" y="4179960"/>
            <a:ext cx="1204920" cy="30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6040" y="199404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43000" indent="-11430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part of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2520" y="611280"/>
            <a:ext cx="3662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Main features of cluste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6040" y="19810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560" indent="-2095560" algn="just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Basic idea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form groups of similar objects (observations or variables) such that the classification objects are homogeneous within groups/clusters and heterogeneous between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6040" y="35701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560" indent="-2095560" algn="just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ype of analysis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uristic tool of discovery lacking an underlying coherent body of statistical 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040" y="480060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560" indent="-2095560" algn="just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Range of methods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uster analysis is a family of more or less closely related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Eta</a:t>
            </a:r>
            <a:r>
              <a:rPr b="0" lang="en-GB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, PRE, F-max, Beale’s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6040" y="12193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43000" indent="-11430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part of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77880"/>
            <a:ext cx="8839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5050"/>
                </a:solidFill>
                <a:latin typeface="Courier New"/>
                <a:ea typeface="Courier New"/>
              </a:rPr>
              <a:t>Upper triangle: Beale‘s F statistic; lower triangle: 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[8,8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         c2         c3         c4         c5         c6         c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          0  1,7527399  2,1746911  2,1056324  2,3824281  2,3440412  2,2895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  ,09228984          0   2,454542  2,1062746  2,4264587  2,3137652  2,2097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  ,0067297  ,01637451          0  1,4336405  2,0737441  1,9334281  1,82056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 ,00225687  ,00910208  ,18682639          0  2,7415018  2,1763191  1,92784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 ,00005713  ,00028111  ,01048918  ,00768272          0  1,3762712  1,29224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 ,00001341  ,00010317  ,00641878  ,00668153  ,21053567          0  1,17508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 4,554e-06  ,00005409  ,00517453  ,00663361  ,20309237   ,3133238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8  1,600e-06  ,00002861  ,00408524  ,00598863  ,18868905  ,28969417  ,322904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  2,24799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  2,13725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 1,75025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 1,8003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  1,2618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 1,17173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 1,15904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8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895480"/>
            <a:ext cx="2209680" cy="22860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2895480"/>
            <a:ext cx="1219320" cy="129564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Eta</a:t>
            </a:r>
            <a:r>
              <a:rPr b="0" lang="en-GB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, PRE, F-max, Beale’s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6040" y="12193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43000" indent="-11430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part of 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577880"/>
            <a:ext cx="8839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5050"/>
                </a:solidFill>
                <a:latin typeface="Courier New"/>
                <a:ea typeface="Courier New"/>
              </a:rPr>
              <a:t>Upper triangle: Beale‘s F statistic; lower triangle: 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[8,8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         c2         c3         c4         c5         c6         c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          0  1,7527399  2,1746911  2,1056324  2,3824281  2,3440412  2,28952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  ,09228984          0   2,454542  2,1062746  2,4264587  2,3137652  2,2097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  ,0067297  ,01637451          0  1,4336405  2,0737441  1,9334281  1,82056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 ,00225687  ,00910208  ,18682639          0  2,7415018  2,1763191  1,92784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 ,00005713  ,00028111  ,01048918  ,00768272          0  1,3762712  1,29224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 ,00001341  ,00010317  ,00641878  ,00668153  ,21053567          0  1,17508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 4,554e-06  ,00005409  ,00517453  ,00663361  ,20309237   ,3133238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8  1,600e-06  ,00002861  ,00408524  ,00598863  ,18868905  ,28969417  ,322904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  2,24799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  2,13725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 1,75025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 1,8003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  1,2618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 1,17173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 1,15904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8  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352680"/>
            <a:ext cx="4495680" cy="18576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352680"/>
            <a:ext cx="1219320" cy="83844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2520" y="611280"/>
            <a:ext cx="4348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esting the stability of a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6040" y="21319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precondition of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6040" y="28177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ers to the property of a cluster solution that it is not affected by small modi-fications of data and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040" y="15238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40" y="36561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e measured by comparing two classifications and computing the propor-tion of consistent al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2520" y="611280"/>
            <a:ext cx="587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esting the stability of a classification: the Ran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6040" y="15238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riginal Rand index (Rand 197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es between 0 and 1 with 1 = perfect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s greater than 0.7 are considered as su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6040" y="32767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justed Rand index (Hubert &amp; Arabie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unts for chance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solution for the problem that the expected value of the Rand index does not take a constant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value of 1; expected value of zero, if the classifications are select-ed random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yields much smaller values than the Ran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2520" y="611280"/>
            <a:ext cx="587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esting the stability of a classification: the Ran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1066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6040" y="208764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rand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s two classifications with respect to the (in)consistency of as-signments of the classification objects to clusters and computes the Rand index and the adjusted Rand index proposed by Hubert &amp; Arabie. The command re-quires the specification of two grouping variables obtained from previous cluster analy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6040" y="15238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rand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groupvar1 groupva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46040" y="4160880"/>
            <a:ext cx="8234280" cy="2315520"/>
            <a:chOff x="446040" y="4160880"/>
            <a:chExt cx="8234280" cy="2315520"/>
          </a:xfrm>
        </p:grpSpPr>
        <p:sp>
          <p:nvSpPr>
            <p:cNvPr id="205" name=""/>
            <p:cNvSpPr/>
            <p:nvPr/>
          </p:nvSpPr>
          <p:spPr>
            <a:xfrm>
              <a:off x="446040" y="4160880"/>
              <a:ext cx="8234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Aft>
                  <a:spcPts val="1001"/>
                </a:spcAft>
                <a:tabLst>
                  <a:tab algn="l" pos="0"/>
                  <a:tab algn="l" pos="380880"/>
                  <a:tab algn="l" pos="76212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23880" y="4187880"/>
              <a:ext cx="7010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MS Mincho"/>
                </a:rPr>
                <a:t>clrand groupvar1 groupva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GB" sz="1800" spc="-1" strike="noStrike" u="sng">
                  <a:solidFill>
                    <a:srgbClr val="000000"/>
                  </a:solidFill>
                  <a:uFillTx/>
                  <a:latin typeface="Courier New"/>
                  <a:ea typeface="MS Mincho"/>
                </a:rPr>
                <a:t>Comparison of two class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  <a:ea typeface="MS Mincho"/>
                </a:rPr>
                <a:t>Grouping variables: "groupvar1" and "groupvar2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 Mincho"/>
                </a:rPr>
                <a:t>Rand index:                            0,969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  <a:ea typeface="MS Mincho"/>
                </a:rPr>
                <a:t>Adjusted Rand index (Hubert &amp; Arabie): 0,93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2520" y="611280"/>
            <a:ext cx="58719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esting the stability of a classification: the Ran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6040" y="1066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s of the 3-cluster solutions using different start options (adj. R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" y="58593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39800" y="1523880"/>
          <a:ext cx="8991720" cy="21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23880"/>
                    <a:ext cx="899172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446040" y="38098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s of the 5-cluster solutions using different start options (adj. R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71480" y="4191120"/>
          <a:ext cx="8991720" cy="218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480" y="4191120"/>
                    <a:ext cx="89917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2520" y="611280"/>
            <a:ext cx="3662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00000"/>
              </a:lnSpc>
              <a:spcAft>
                <a:spcPts val="1576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eding up the program for calculating Mojena’s stopping ru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576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ment of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576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ment of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l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576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program for checking whether a local minimum is found with kmeans or kmedians cluste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Aft>
                <a:spcPts val="1576"/>
              </a:spcAft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programs for calculating additional statistics (e. g. homogeneity mea-sures, measures for the fit of a dend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2520" y="611280"/>
            <a:ext cx="3662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Basic idea: exam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6040" y="1365120"/>
            <a:ext cx="3598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 algn="ctr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ing groups of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35440" y="1365120"/>
            <a:ext cx="6096240" cy="4446720"/>
            <a:chOff x="4735440" y="1365120"/>
            <a:chExt cx="6096240" cy="4446720"/>
          </a:xfrm>
        </p:grpSpPr>
        <p:sp>
          <p:nvSpPr>
            <p:cNvPr id="220" name=""/>
            <p:cNvSpPr/>
            <p:nvPr/>
          </p:nvSpPr>
          <p:spPr>
            <a:xfrm>
              <a:off x="5105520" y="1365120"/>
              <a:ext cx="35989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428840" indent="-1428840">
                <a:lnSpc>
                  <a:spcPct val="120000"/>
                </a:lnSpc>
                <a:spcAft>
                  <a:spcPts val="675"/>
                </a:spcAft>
                <a:tabLst>
                  <a:tab algn="l" pos="0"/>
                  <a:tab algn="l" pos="285840"/>
                  <a:tab algn="l" pos="380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nding groups of vari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428840" indent="-1428840">
                <a:lnSpc>
                  <a:spcPct val="120000"/>
                </a:lnSpc>
                <a:spcAft>
                  <a:spcPts val="675"/>
                </a:spcAft>
                <a:tabLst>
                  <a:tab algn="l" pos="0"/>
                  <a:tab algn="l" pos="285840"/>
                  <a:tab algn="l" pos="380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735440" y="2308320"/>
            <a:ext cx="6096240" cy="3503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35440" y="2308320"/>
                      <a:ext cx="6096240" cy="35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3" name=""/>
          <p:cNvGraphicFramePr/>
          <p:nvPr/>
        </p:nvGraphicFramePr>
        <p:xfrm>
          <a:off x="163440" y="2209680"/>
          <a:ext cx="6096240" cy="350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440" y="2209680"/>
                    <a:ext cx="609624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2520" y="611280"/>
            <a:ext cx="480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onsequences of decision making: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23880" y="1397160"/>
          <a:ext cx="609444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44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95440" y="2489040"/>
          <a:ext cx="8191440" cy="567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2489040"/>
                    <a:ext cx="819144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46040" y="1365120"/>
            <a:ext cx="8088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parison of two kmeans cluster analy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using different initial group cent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scree" descr=""/>
          <p:cNvPicPr/>
          <p:nvPr/>
        </p:nvPicPr>
        <p:blipFill>
          <a:blip r:embed="rId1"/>
          <a:stretch/>
        </p:blipFill>
        <p:spPr>
          <a:xfrm>
            <a:off x="433440" y="1028880"/>
            <a:ext cx="7948440" cy="5295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inverse scree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694200" y="5006520"/>
            <a:ext cx="53316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2520" y="611280"/>
            <a:ext cx="480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teps and decisions in cluste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6040" y="12175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720" indent="-666720">
              <a:lnSpc>
                <a:spcPct val="120000"/>
              </a:lnSpc>
              <a:tabLst>
                <a:tab algn="l" pos="0"/>
                <a:tab algn="l" pos="28584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of a sample (outliers may influence the resul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73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and transformation of variables (irrelevant and correlated variables can bias the classification; cluster analysis requires the variables to have equal sc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9703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just">
              <a:lnSpc>
                <a:spcPct val="11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ice of the basic approach (in particular: agglomerative hierarchical vs. partitioning cluster analy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3419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 algn="just">
              <a:lnSpc>
                <a:spcPct val="11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of a dissimilarity or similarity measure (depends partly on the mea-surement level of the variables and the clustering technique cho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879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I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ice of a particular clustering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040" y="51037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720" indent="-666720">
              <a:lnSpc>
                <a:spcPct val="120000"/>
              </a:lnSpc>
              <a:tabLst>
                <a:tab algn="l" pos="0"/>
                <a:tab algn="l" pos="28584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ice of the initial partition in case of partiti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5637240"/>
            <a:ext cx="8691480" cy="382680"/>
            <a:chOff x="0" y="5637240"/>
            <a:chExt cx="8691480" cy="382680"/>
          </a:xfrm>
        </p:grpSpPr>
        <p:sp>
          <p:nvSpPr>
            <p:cNvPr id="61" name=""/>
            <p:cNvSpPr/>
            <p:nvPr/>
          </p:nvSpPr>
          <p:spPr>
            <a:xfrm>
              <a:off x="457200" y="5637240"/>
              <a:ext cx="823428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80880" indent="-380880">
                <a:lnSpc>
                  <a:spcPct val="12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II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valuation and validation (number of clusters, interpretation, stability, validi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2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GB" sz="1800" spc="-1" strike="noStrike">
                  <a:solidFill>
                    <a:srgbClr val="ff505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2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5638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Wingdings"/>
                  <a:ea typeface="Wingdings"/>
                </a:rPr>
                <a:t>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2520" y="611280"/>
            <a:ext cx="480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riteria for a good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21337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validity (internal homogeneity and external heterogene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that belong to the same cluster should be simi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bjects of different clusters should be different. The clusters should be well isolated from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classification should fit to the data and should be able to explain the variation in the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7840" y="12193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pre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usters should be substantively interpre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840" y="54849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mall modifications in data and methods should not change the 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7840" y="43419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sonable number and size of clusters (addi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number of clusters should be as small as possible. The size of the clusters should not be too sm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2520" y="611280"/>
            <a:ext cx="4805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Criteria for a good classification 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6040" y="25131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lative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classification should be better than the null model which assumes that no clusters are pres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classification should be better than other classif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6040" y="129384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lusters should correlate with external variables that are known to be correlated with the classification and that are not used for cluster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2520" y="611280"/>
            <a:ext cx="4348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ols for decision making and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6040" y="23590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720" indent="-666720">
              <a:lnSpc>
                <a:spcPct val="120000"/>
              </a:lnSpc>
              <a:tabLst>
                <a:tab algn="l" pos="0"/>
                <a:tab algn="l" pos="28584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s for determining the number of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6040" y="40384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720" indent="-666720">
              <a:lnSpc>
                <a:spcPct val="120000"/>
              </a:lnSpc>
              <a:tabLst>
                <a:tab algn="l" pos="0"/>
                <a:tab algn="l" pos="28584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s for assessing the internal validity of a class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6040" y="320040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66720" indent="-666720">
              <a:lnSpc>
                <a:spcPct val="120000"/>
              </a:lnSpc>
              <a:tabLst>
                <a:tab algn="l" pos="0"/>
                <a:tab algn="l" pos="285840"/>
                <a:tab algn="l" pos="38088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s for testing the stability of a class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611280"/>
            <a:ext cx="5796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hierarchical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6040" y="17524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isual) inspection of the fusion/agglomeration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ndrogram (official Stata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ree diagram (easy to produ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lomeration schedule (new pro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agglomera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6040" y="18273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uster stop [clname], rule(schedule) [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las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eps(#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6040" y="137016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6040" y="258912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uster stop, rule(schedul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plays the agglomeration schedule for hierarchical agglomerative cluster analysis und computes the differences between the stages of the cluster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dditional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Courier New"/>
              </a:rPr>
              <a:t>last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teps(#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es the number of steps to be disp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2520" y="611280"/>
            <a:ext cx="6786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etermining the number of clusters: agglomera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381168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6040" y="2209680"/>
            <a:ext cx="8234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428840" indent="-1428840"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285840"/>
                <a:tab algn="l" pos="380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6040" y="9907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43000" indent="-11430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uster analysis of 799 observations, using Ward’s linkage and squared Euclidean d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6040" y="1676520"/>
            <a:ext cx="82342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Aft>
                <a:spcPts val="799"/>
              </a:spcAft>
              <a:tabLst>
                <a:tab algn="l" pos="0"/>
                <a:tab algn="l" pos="380880"/>
                <a:tab algn="l" pos="76212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uster stop ward, rule(schedule) last(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92160"/>
            <a:ext cx="75438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         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ge  clusters         value         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8        1         1529,7205       834,59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7        2          695,1265        15,2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6        3          679,8278       414,14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5        4          265,6848        60,39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4        5          205,2878        32,03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3        6          173,2559        12,15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2        7          161,0966        22,56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1        8          138,5361        29,61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90        9          108,9209         3,42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9       10          105,4976        14,27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8       11           91,2275         6,7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7       12           84,4405         2,29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6       13           82,1455         1,54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5       14           80,6046        14,88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84       15           65,7175         3,26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102120"/>
            <a:ext cx="1143000" cy="360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2200" y="3352680"/>
            <a:ext cx="457200" cy="30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08:10:12Z</dcterms:created>
  <dc:creator> </dc:creator>
  <dc:description/>
  <dc:language>en-US</dc:language>
  <cp:lastModifiedBy>Schaeper</cp:lastModifiedBy>
  <cp:lastPrinted>2003-08-04T07:36:49Z</cp:lastPrinted>
  <dcterms:modified xsi:type="dcterms:W3CDTF">2006-03-30T10:01:56Z</dcterms:modified>
  <cp:revision>575</cp:revision>
  <dc:subject/>
  <dc:title>Anhörung vor dem Landeshochschulrat Brandenburg</dc:title>
</cp:coreProperties>
</file>