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7F58-85D4-40C2-BF9B-C41050CF6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166B-5B0A-459D-A6B4-324FD0F35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C923-B82A-40A2-B32B-C9DC6E5F5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AE5A-616C-4A2E-BD02-3E83C0C7C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E4D8-3F29-4741-952E-BEC4941D2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FE80-1AA2-43A9-95FC-087C29ED0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2DE2-0729-4F66-B594-8BF59872A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7D49-98B8-463B-A085-B952DB9BA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3DC2-C97D-4C13-B214-98B6BE6AB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ake… </a:t>
            </a: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A priori restrictions on the contemporary effects of the sh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Blanchard… Restrictions on long-run effects of the sh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FA14-DE64-4DB0-B6C0-D837C5B16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1B84-7AC3-4A82-9CE7-53EA679BE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6D1A-E393-44C3-B8FA-54A3D469B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34F0-F9F6-4A9F-AD47-54BBD0E91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C15-9E53-4EF4-B5A3-80878ECA4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F2C5-5B4B-43BC-86CD-F4274DFC2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68F-5E2E-4B3B-BA12-DBB6A2F3E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4174-46FF-4D15-AB07-9BA03EDEF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0752-081E-4E95-85E4-D4E1FCB73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0405-DFF4-415A-878A-496975027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4D40-3C3A-4A4E-8D1D-AE11C932A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0085-8664-4C72-B1B7-4CCDA1D82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CD2A-4FC5-43A2-A849-7C9359917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57AE-FE90-4F66-BFFE-DA31B4489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2DF1-D367-4771-BF2B-7E09F2ACC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B180-BC3A-4032-873A-C8977E033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004F-2E7F-4B23-987D-9ADAB285C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5CA3-8C3A-429A-AE17-8C0B08FD0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AD58-C8B5-404A-BD56-2B87DB26C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B95E-E53C-47B6-8731-5E14B8B62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4395-62B9-40A3-A9D8-85D72F869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6ACE-87D9-442D-BFB3-EC895274D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4B13-284A-4344-82A7-A172117BD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5501-0CC6-494B-A6DB-0DABA6C4A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comment on insheet – date string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4122-7929-44FD-93F6-2DB056825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7AEB-AB24-4F67-B88D-5B234FB60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2413-7CD6-4ACD-8C3F-42085524E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DACD-33A3-4ACA-8782-3F7590298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7C09-4EB4-4A18-9F63-AA0A65D00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67B-78C4-4822-AFEE-0E19BF0F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0F8-9D97-4C61-887B-909D31E2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A19-C379-4F35-8868-BB8F4012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BD6-86D8-400B-9524-B8339109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A78-3C86-4197-9435-2EE4EF63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7DB-F310-458B-841C-11250447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49C-FBBB-4802-91F9-D7E88272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099-A099-42E4-93B1-EDB15238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D4F-771E-4422-A8A0-E87DD5DF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285-7A3F-4F54-855C-5D278FE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D49-0E5F-4D13-AE42-5555EC96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EBF-DEFD-423C-9C78-34DEF709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7D6E-3C83-40BC-A46E-DFFD89669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echnical tips on time series with St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stavo Sánch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ior Statisticia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aCor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54600" y="5715000"/>
            <a:ext cx="55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2011 Mexican Stata Users Group Meeting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2: Predictions with -arima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alman Filter recu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 try to manually reproduce the predictions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results do not match the predictions obtain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dict double y_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7"/>
          <p:cNvGraphicFramePr/>
          <p:nvPr/>
        </p:nvGraphicFramePr>
        <p:xfrm>
          <a:off x="1905120" y="2666880"/>
          <a:ext cx="584964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666880"/>
                    <a:ext cx="5849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8"/>
          <p:cNvGraphicFramePr/>
          <p:nvPr/>
        </p:nvGraphicFramePr>
        <p:xfrm>
          <a:off x="1600200" y="3200400"/>
          <a:ext cx="5950080" cy="55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200400"/>
                    <a:ext cx="59500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2: Predictions with -arima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Kalman Filter recu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ode for manual predi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7f7f7f"/>
                </a:solidFill>
                <a:latin typeface="Courier New"/>
                <a:ea typeface="Courier New"/>
              </a:rPr>
              <a:t>use http://www.stata-press.com/data/r11/lutkepohl,cl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rima dlinvestment, ma(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edict double yh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alar b0 = _b[_cons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alar t1 = [ARMA]_b[L1.ma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n double my_yhat = b0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n double myehat = dlinvestment - b0 in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values i = 3/9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ui replace my_yhat = my_yha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t1*L.myehat in `i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ui replace myehat = dlinvestment - my_yhat in `i'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indefinite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2: Predictions with -arima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Kalman Filter recu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List first 12 predi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  list qtr yhat my_yhat in 1/13,sep(1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qtr        yhat     my_yhat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-------------------------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 | 1960q1   .01686688   .01686688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. | 1960q2   .01686688   .01686688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 | 1960q3   .02052151   .02062398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. | 1960q4   .01478403    .0147996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. | 1961q1   .01312365   .01312617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. | 1961q2   .00326376   .00326418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. | 1961q3   .02471242   .02471249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. | 1961q4   .01691061   .01691062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. | 1962q1   .01412974   .01412975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. | 1962q2   .00643301   .00643301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. | 1962q3   .01940009    .0194001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-------------------------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. | 1962q4   .01649863   .01649863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. | 1963q1   .01749646   .01749646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2: Predictions with -arima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alman Filter recu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a uses the recursive formula for the Kalman filter prediction based 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d variance of the white noise disturb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1523880" y="2895480"/>
          <a:ext cx="5261040" cy="7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895480"/>
                    <a:ext cx="5261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6400800" y="3048120"/>
          <a:ext cx="1839960" cy="38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048120"/>
                    <a:ext cx="183996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6"/>
          <p:cNvGraphicFramePr/>
          <p:nvPr/>
        </p:nvGraphicFramePr>
        <p:xfrm>
          <a:off x="304920" y="4267080"/>
          <a:ext cx="5949720" cy="101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4267080"/>
                    <a:ext cx="5949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7"/>
          <p:cNvGraphicFramePr/>
          <p:nvPr/>
        </p:nvGraphicFramePr>
        <p:xfrm>
          <a:off x="6172200" y="4495680"/>
          <a:ext cx="200196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72200" y="4495680"/>
                    <a:ext cx="2001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8"/>
          <p:cNvGraphicFramePr/>
          <p:nvPr/>
        </p:nvGraphicFramePr>
        <p:xfrm>
          <a:off x="838080" y="5638680"/>
          <a:ext cx="191448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8080" y="5638680"/>
                    <a:ext cx="1914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2: Predictions with -arima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alman Filter recu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http://www.stata-press.com/data/r11/lutkepohl,cle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rima dlinvestment, ma(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 double yh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** Coefficient estimates and sigma^2 from ereturn list **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alar b0 = _b[_cons]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alar t1 = [ARMA]_b[L1.ma]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alar sigma2 = e(sigma)^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** pt and shrinking factor for the first two observations**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en double pt=sigma2 in 1/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en double myratio=(sigma2)/(sigma2+t1^2*pt) in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** Predicted series and errors for the first two observations **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en double my_yhat = b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enerate double myehat = myratio*(dlinvestment - my_yhat) in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** Predictions with the Kalman filter recursions **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values i = 3/91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i replace my_yhat = my_yhat + t1*l.myehat in `i'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i replace pt= (sigma2)*(t1^2)*(L.pt)/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sigma2+t1^2*L.pt) in `i'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i replace myratio=(sigma2)/(sigma2+t1^2*pt) in `i'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i replace myehat=myratio*(dlinvestment - my_yhat) in `i'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indefinite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indefinite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indefinite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indefinite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indefinite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indefinite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indefinite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indefinite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0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2: Predictions with -arima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alman Filter recu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List first 10 predi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 list qtr yhat my_yhat pt myratio in 1/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qtr        yhat     my_yhat          pt     myratio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-------------------------------------------------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 | 1960q1   .01686688   .01686688   .00192542           .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. | 1960q2   .01686688   .01686688   .00192542   .97272668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 | 1960q3   .02052151   .02052151   .00005251   .99923589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. | 1960q4   .01478403   .01478403   1.471e-06   .99997858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. | 1961q1   .01312365   .01312365   4.125e-08    .9999994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-------------------------------------------------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. | 1961q2   .00326376   .00326376   1.157e-09   .99999998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. | 1961q3   .02471242   .02471242   3.243e-11           1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. | 1961q4   .01691061   .01691061   9.092e-13           1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. | 1962q1   .01412974   .01412974   2.549e-14           1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. | 1962q2   .00643301   .00643301   7.147e-16           1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9250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unctions (IRF)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352680" y="38098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(1) Endogenou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18040" y="3200400"/>
            <a:ext cx="10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1066680" y="3733920"/>
                <a:ext cx="2210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990720" y="2438280"/>
                <a:ext cx="7315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2743200" y="4343400"/>
                <a:ext cx="544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743200" y="5029200"/>
                <a:ext cx="555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2743200" y="5486400"/>
                <a:ext cx="506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13"/>
          <p:cNvSpPr/>
          <p:nvPr/>
        </p:nvSpPr>
        <p:spPr>
          <a:xfrm>
            <a:off x="3352680" y="44197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rix with coefficients associated to lag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429000" y="487692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ctors with coefficients associated to the inter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342900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ctor with inno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functions (IRF)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gonalized IRF functions for a shock in Y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6019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functions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266688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irf graph,irf-: simple IR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respond to one-time unit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effects do not have a causal interpre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990720" y="1981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gnitude of the shock in the IRF 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functions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4648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irf graph,oirf-: orthogonal IR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858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-2286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thogonalization is produced via the Cholesky decompo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-2286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magnitude of the shock corresponds to one unit standard devi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2858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irf graph,sirf- structural IR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858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-2286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irf graph,sirf- IRF functions are derived from the constraints imposed on the SV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-2286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magnitude of the shock corresponds to one unit standard devi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51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435924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990720" y="1981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gnitude of the shock in the IRF 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indefinite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indefinite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indefinite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1: Specifying the tim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s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e form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2: Why some predictions with -arima- do not match my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manual computations - Kalman Filter recu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3: What is the initial shock for impulse response function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after -var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4: How do I fit my unobserved component model wit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–sspace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ar regression and random wal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5: How do I specify restrictions on the long-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integrating relationship in the VEC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functions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fit a VAR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http://www.stata-press.com/data/r11/lutkepoh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  dlinvestment dlincome, lags(1/2) df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functions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. var  dlinvestment dlincome,lags(1/2) df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utoregress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tion           Parms      RMSE     R-sq      chi2     P&gt;chi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vestment          5      </a:t>
            </a:r>
            <a:r>
              <a:rPr b="1" lang="en-US" sz="1100" spc="-1" strike="noStrike">
                <a:solidFill>
                  <a:srgbClr val="ff0000"/>
                </a:solidFill>
                <a:latin typeface="Courier New"/>
                <a:ea typeface="Courier New"/>
              </a:rPr>
              <a:t>.04424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56    8.32989   0.080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come              5     .011403   0.1027    10.1916   0.037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Coef.   Std. Err.      z    P&gt;|z|     [95% Conf. Interval]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vestment |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vestment |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1. |  -.2274192   .1053092    -2.16   0.031    -.4338214    -.02101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2. |  -.1159636   .1057698    -1.10   0.273    -.3232686    .09134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come |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1. |   .7103053   .3948248     1.80   0.072    -.0635372    1.48414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2. |   .5149489   .3935121     1.31   0.191    -.2563206    1.28621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_cons |  -.0012273   .0111362    -0.11   0.912    -.0230539    .020599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come     |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vestment |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1. |   .0597466   .0271441     2.20   0.028     .0065451    .112948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2. |   .0563513   .0272629     2.07   0.039      .002917    .109785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come |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1. |   .0209461   .1017687     0.21   0.837    -.1785169     .2204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2. |   .0833252   .1014303     0.82   0.411    -.1154745    .282124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_cons |   .0150368   .0028704     5.24   0.000     .0094108    .020662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4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2" dur="5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5" dur="500"/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8" dur="500"/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7" dur="500"/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0" dur="500"/>
                                        <p:tgtEl>
                                          <p:spTgt spid="1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3" dur="500"/>
                                        <p:tgtEl>
                                          <p:spTgt spid="1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14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2" dur="500"/>
                                        <p:tgtEl>
                                          <p:spTgt spid="14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5" dur="500"/>
                                        <p:tgtEl>
                                          <p:spTgt spid="145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8" dur="500"/>
                                        <p:tgtEl>
                                          <p:spTgt spid="145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45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indefinite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indefinite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indefinite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indefinite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indefinite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indefinite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indefinite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indefinite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indefinite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indefinite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indefinite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indefinite"/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indefinite"/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indefinite"/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indefinite"/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indefinite"/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indefinite"/>
                                        <p:tgtEl>
                                          <p:spTgt spid="1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indefinite"/>
                                        <p:tgtEl>
                                          <p:spTgt spid="1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indefinite"/>
                                        <p:tgtEl>
                                          <p:spTgt spid="1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indefinite"/>
                                        <p:tgtEl>
                                          <p:spTgt spid="14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indefinite"/>
                                        <p:tgtEl>
                                          <p:spTgt spid="14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indefinite"/>
                                        <p:tgtEl>
                                          <p:spTgt spid="145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indefinite"/>
                                        <p:tgtEl>
                                          <p:spTgt spid="145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indefinite"/>
                                        <p:tgtEl>
                                          <p:spTgt spid="145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functions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ot the IRF function for a shock in dlinves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39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78839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78839a"/>
                </a:solidFill>
                <a:latin typeface="Tahoma"/>
              </a:rPr>
              <a:t>use http://www.stata-press.com/data/r11/lutkepohl</a:t>
            </a:r>
            <a:r>
              <a:rPr b="0" lang="en-US" sz="2000" spc="-1" strike="noStrike">
                <a:solidFill>
                  <a:srgbClr val="78839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78839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78839a"/>
                </a:solidFill>
                <a:latin typeface="Tahoma"/>
              </a:rPr>
              <a:t>var  dlinvestment dlincome, lags(1/2) df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rf create order1, step(10) set(myirf1,repla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rf graph oirf,  impulse(dlinvestment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(dlinvestment dlinco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functions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ot the IRF function for a shock in dlinves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Tahoma"/>
              </a:rPr>
              <a:t>irf graph oirf,  impulse(dlinvestment) </a:t>
            </a:r>
            <a:r>
              <a:rPr b="0" lang="en-US" sz="2000" spc="-1" strike="noStrike">
                <a:solidFill>
                  <a:srgbClr val="59595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Tahoma"/>
              </a:rPr>
              <a:t>//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Tahoma"/>
              </a:rPr>
              <a:t>response(dlinvestment dlinco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60958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functions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for the OIRF function for a shock in dlinvest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 irf table oirf, irf(order1) impulse(dlinvestment) ///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     response(dlincome dlinvestment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s from order1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---------+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|    (1)         (1)         (1)    |    (2)         (2)         (2) 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tep  |   oirf       Lower       Upper    |   oirf       Lower       Upper 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-+-----------------------------------+-----------------------------------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0       | .001641     -.000715    .003998   | </a:t>
            </a:r>
            <a:r>
              <a:rPr b="1" lang="en-US" sz="1100" spc="-1" strike="noStrike">
                <a:solidFill>
                  <a:srgbClr val="ff0000"/>
                </a:solidFill>
                <a:latin typeface="Courier New"/>
                <a:ea typeface="Courier New"/>
              </a:rPr>
              <a:t>.04424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037741     .050739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1       | .002678     .000241     .005114   | -.008895    -.018459    .000669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2       | .002154     -.000283    .004592   | -.00036     -.009879    .009159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3       | -.000255    -.001358    .000849   | .004022     -.001068    .009113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4       | .000394     -.000347    .001136   | .000056     -.002258    .00237 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5       | .000217     -.000207    .000641   | -.00033     -.002245    .001585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6       | .000021     -.000237    .000279   | .000426     -.000457    .001309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7       | .000025     -.000101    .000152   | .000068     -.000353    .000488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8       | .00003      -.000055    .000116   | -.000036    -.000356    .000284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9       | 4.4e-06     -.000034    .000043   | .000035     -.000074    .000143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10      | 2.7e-06     -.000022    .000027   | .000015     -.000063    .000093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---------+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95% lower and upper bounds reported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1) irfname = order1, impulse = dlinvestment, and response = dlincom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2) irfname = order1, impulse = dlinvestment, and response = dlinvestmen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0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3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9" dur="5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2" dur="5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5" dur="5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8" dur="5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4" dur="500"/>
                                        <p:tgtEl>
                                          <p:spTgt spid="1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7" dur="500"/>
                                        <p:tgtEl>
                                          <p:spTgt spid="1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0" dur="500"/>
                                        <p:tgtEl>
                                          <p:spTgt spid="1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3" dur="500"/>
                                        <p:tgtEl>
                                          <p:spTgt spid="15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6" dur="500"/>
                                        <p:tgtEl>
                                          <p:spTgt spid="15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9" dur="500"/>
                                        <p:tgtEl>
                                          <p:spTgt spid="15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15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5" dur="500"/>
                                        <p:tgtEl>
                                          <p:spTgt spid="15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indefinite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indefinite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indefinite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indefinite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indefinite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indefinite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indefinite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indefinite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indefinite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indefinite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indefinite"/>
                                        <p:tgtEl>
                                          <p:spTgt spid="1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indefinite"/>
                                        <p:tgtEl>
                                          <p:spTgt spid="1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indefinite"/>
                                        <p:tgtEl>
                                          <p:spTgt spid="1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indefinite"/>
                                        <p:tgtEl>
                                          <p:spTgt spid="1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indefinite"/>
                                        <p:tgtEl>
                                          <p:spTgt spid="15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indefinite"/>
                                        <p:tgtEl>
                                          <p:spTgt spid="15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indefinite"/>
                                        <p:tgtEl>
                                          <p:spTgt spid="15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indefinite"/>
                                        <p:tgtEl>
                                          <p:spTgt spid="15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indefinite"/>
                                        <p:tgtEl>
                                          <p:spTgt spid="15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3: Initial shock for Impuls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functions after -var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for the IRF function for a shock in dlinvest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  irf table irf, irf(order1) impulse(dlinvestment) ///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     response(dlincome dlinvestment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s from order1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---------+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|    (1)         (1)         (1)    |    (2)         (2)         (2) 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tep  |   irf        Lower       Upper    |   irf        Lower       Upper 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-+-----------------------------------+-----------------------------------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0       | 0           0           0         | </a:t>
            </a:r>
            <a:r>
              <a:rPr b="1" lang="en-US" sz="1100" spc="-1" strike="noStrike">
                <a:solidFill>
                  <a:srgbClr val="ff0000"/>
                </a:solidFill>
                <a:latin typeface="Courier New"/>
                <a:ea typeface="Courier New"/>
              </a:rPr>
              <a:t>1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1           1      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1       | .059747     .004985     .114509   | -.227419    -.439876    -.014963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2       | .044015     -.010388    .098419   | -.021806    -.237257    .193646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3       | -.008218    -.032283    .015847   | .093362     -.027102    .213826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4       | .007845     -.007056    .022745   | -.001875    -.054015    .050264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5       | .004629     -.004709    .013967   | -.00906     -.054602    .036483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6       | .000104     -.005125    .005332   | .009605     -.010735    .029945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7       | .000451     -.002119    .003022   | .001323     -.00833     .010977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8       | .000638     -.001136    .002413   | -.001041    -.008544    .006462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9       | .000063     -.000688    .000814   | .000769     -.001641    .003179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10      | .000042     -.000454    .000538   | .00032      -.001466    .002105   |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---------+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95% lower and upper bounds reported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1) irfname = order1, impulse = dlinvestment, and response = dlincom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2) irfname = order1, impulse = dlinvestment, and response = dlinvestmen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2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5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8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1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4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7" dur="5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0" dur="5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3" dur="5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6" dur="500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9" dur="500"/>
                                        <p:tgtEl>
                                          <p:spTgt spid="1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2" dur="500"/>
                                        <p:tgtEl>
                                          <p:spTgt spid="1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5" dur="500"/>
                                        <p:tgtEl>
                                          <p:spTgt spid="1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8" dur="500"/>
                                        <p:tgtEl>
                                          <p:spTgt spid="1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1" dur="500"/>
                                        <p:tgtEl>
                                          <p:spTgt spid="15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4" dur="500"/>
                                        <p:tgtEl>
                                          <p:spTgt spid="15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7" dur="500"/>
                                        <p:tgtEl>
                                          <p:spTgt spid="15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0" dur="500"/>
                                        <p:tgtEl>
                                          <p:spTgt spid="15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3" dur="500"/>
                                        <p:tgtEl>
                                          <p:spTgt spid="15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4: How do I fit my unobserv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component model with –sspace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Space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2438280" y="2438280"/>
                <a:ext cx="4292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υ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Rectangle 5"/>
          <p:cNvSpPr/>
          <p:nvPr/>
        </p:nvSpPr>
        <p:spPr>
          <a:xfrm>
            <a:off x="1453680" y="3581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52480" y="3962520"/>
            <a:ext cx="62485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is an m x 1 vector of unobserved state variab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is a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1 vector of exogenous variab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is a q x 1 vector of state-error terms, (q ≤ 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is an n x 1 vector of observed endogenous variab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is a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1 vector of exogenous variab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Ʋ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is an r x 1 vector of observation-error terms, (r ≤ n)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B, C, D, F, and G are parameter matr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indefinite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indefinite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indefinite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indefinite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4: How do I fit my unobser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component model with –sspace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Space representation for linear regres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2874960" y="2438280"/>
                <a:ext cx="3419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Rectangle 5"/>
          <p:cNvSpPr/>
          <p:nvPr/>
        </p:nvSpPr>
        <p:spPr>
          <a:xfrm>
            <a:off x="1463760" y="37339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752480" y="41911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1 [z]L.z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2 [y]z 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pace  (z L.z, state noconsta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y w z,noerror ), constraints(1/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Tahoma"/>
              </a:rPr>
              <a:t>TIP 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Space estimation for linear regres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990720" y="152388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use http://www.stata-press.com/data/r11/lutkepohl,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constraint 1 [z]L.z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constraint 2 [dlinvestment]z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space  (z L.z, state noconstant) (dlinvestment dlincome z,noerror ), constraints(1/2) n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990720" y="2438280"/>
            <a:ext cx="746748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-spa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ample: 1960q2 - 1982q4                           Number of obs   =         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Wald chi2(1)    =       0.8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likelihood =  154.44197                       Prob &gt; chi2     =     0.348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 1)  [z]L.z =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 2)  [dlinvestment]z =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O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vestment |      Coef.   Std. Err.      z    P&gt;|z|     [95% Conf. Interval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z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z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L1. |  (omitt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vestment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z |          1          .        .       .            .          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come |   .3668678   .3914794     0.94   0.349    -.4004178    1.1341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_cons |   .0096556    .008925     1.08   0.279     -.007837    .027148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var(z)       |   .0019651   .0002913     6.75   0.000     .0013941    .00253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: Tests of variances against zero are conservative and are provided only for referenc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1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3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5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7" dur="indefinite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4: How do I fit my unobser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component model with –sspace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Space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5375160" y="2971800"/>
                <a:ext cx="2500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Rectangle 5"/>
          <p:cNvSpPr/>
          <p:nvPr/>
        </p:nvSpPr>
        <p:spPr>
          <a:xfrm>
            <a:off x="1211040" y="411480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Command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600200" y="46483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1 [z]L.z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2 [y]z 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pace  (z L.z, state noconsta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y  z,noerror noconstant), constraints(1/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352680" y="1905120"/>
                <a:ext cx="23623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3"/>
          <p:cNvSpPr/>
          <p:nvPr/>
        </p:nvSpPr>
        <p:spPr>
          <a:xfrm>
            <a:off x="609480" y="17524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P 1:Specifying the time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sset timevar [, options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 frequency (daily, weekly, monthly,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time (hours, minutes, seconds,…, millisecon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ta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set timevar,daily delta(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gs in terms of seven 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1524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Space estimation for Random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990720" y="1600200"/>
            <a:ext cx="69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use http://www.stata-press.com/data/r11/lutkepohl,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constraint 1 [z]L.z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constraint 2 [dlinvestment]z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space  (z L.z, state noconstant) (dlinvestment z,noerror noconstant), constraints(1/2) n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990720" y="2514600"/>
            <a:ext cx="7315200" cy="35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-spa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ample: 1960q2 - 1982q4                           Number of obs   =         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likelihood =  112.765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 1)  [z]L.z =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 2)  [dlinvestment]z =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O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vestment |      Coef.   Std. Err.      z    P&gt;|z|     [95% Conf. Interval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z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z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L1. |          1          .        .       .            .          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linvestment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z |          1          .        .       .            .          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var(z)       |   .0046812   .0006978     6.71   0.000     .0033135     .00604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: Model is not stationa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: Tests of variances against zero are conservative and are provided only for referenc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5:VEC – Johansen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533520" y="16002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Reduced form for a VEC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371600" y="33526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(1) Endogenou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4000" y="2895480"/>
            <a:ext cx="10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762120" y="3276720"/>
                <a:ext cx="503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685800" y="2057400"/>
                <a:ext cx="7543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αβ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685800" y="3886200"/>
                <a:ext cx="609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αβ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838080" y="4648320"/>
                <a:ext cx="430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0"/>
              <p:cNvSpPr txBox="1"/>
              <p:nvPr/>
            </p:nvSpPr>
            <p:spPr>
              <a:xfrm>
                <a:off x="685800" y="5257800"/>
                <a:ext cx="598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1"/>
              <p:cNvSpPr txBox="1"/>
              <p:nvPr/>
            </p:nvSpPr>
            <p:spPr>
              <a:xfrm>
                <a:off x="838080" y="5867280"/>
                <a:ext cx="430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13"/>
          <p:cNvSpPr/>
          <p:nvPr/>
        </p:nvSpPr>
        <p:spPr>
          <a:xfrm>
            <a:off x="1295280" y="464832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rix with coefficients associated to short-run dynamic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1371600" y="52578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ctors with coefficients associated to the intercepts and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371600" y="5867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ctor with inno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1295280" y="3886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atrices containing the long-run adjustment coefficients and coefficients for the cointegrating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1219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5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828800" y="1828800"/>
                <a:ext cx="51814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αβ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" name="Rectangle 6"/>
          <p:cNvSpPr/>
          <p:nvPr/>
        </p:nvSpPr>
        <p:spPr>
          <a:xfrm>
            <a:off x="990720" y="426708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285840">
              <a:lnSpc>
                <a:spcPct val="100000"/>
              </a:lnSpc>
              <a:spcBef>
                <a:spcPts val="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Identifying </a:t>
            </a:r>
            <a:r>
              <a:rPr b="0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 and β requires r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strictions (r: number of cointegrating vectors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hansen FIML estimation identifies α and β  by imposing r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theoretical restriction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8"/>
              <p:cNvSpPr txBox="1"/>
              <p:nvPr/>
            </p:nvSpPr>
            <p:spPr>
              <a:xfrm>
                <a:off x="2590920" y="3124080"/>
                <a:ext cx="3733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αβ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Box 18"/>
          <p:cNvSpPr/>
          <p:nvPr/>
        </p:nvSpPr>
        <p:spPr>
          <a:xfrm>
            <a:off x="1477800" y="129528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VEC with three endogenous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9"/>
          <p:cNvSpPr/>
          <p:nvPr/>
        </p:nvSpPr>
        <p:spPr>
          <a:xfrm>
            <a:off x="1525680" y="2819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2666880" y="5334120"/>
                <a:ext cx="3373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αβ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indefinit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5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trictions based on Johansen normalization (Defaul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262626"/>
                </a:solidFill>
                <a:latin typeface="Tahoma"/>
              </a:rPr>
              <a:t>use http://www.stata-press.com/data/r11/lutkepohl,cle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262626"/>
                </a:solidFill>
                <a:latin typeface="Tahoma"/>
              </a:rPr>
              <a:t>vec linvestment lincome lconsumption, rank(2) lags(2) noetable trend(non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1066680" y="2362320"/>
            <a:ext cx="746784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error-correction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ication:  beta is exactly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ohansen normalization restrictions im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ta |      Coef.   Std. Err.      z    P&gt;|z|     [95% Conf. Interval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ce1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vestment |          1          .        .       .            .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come |  (omit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consumption |  -.7943718   .0125908   -63.09   0.000    -.8190493   -.7696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ce2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vestment |  (omit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come |          1          .        .       .            .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consumption |  -1.013321   .0013846  -731.87   0.000    -1.016035   -1.0106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indefinite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indefinite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1219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5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057400" y="4800600"/>
                <a:ext cx="464832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αβ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TextBox 18"/>
          <p:cNvSpPr/>
          <p:nvPr/>
        </p:nvSpPr>
        <p:spPr>
          <a:xfrm>
            <a:off x="1143000" y="1523880"/>
            <a:ext cx="77724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nstead of the Johansen atheoretical restrictions we could </a:t>
            </a:r>
            <a:r>
              <a:rPr b="0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economic theory to impose restrictions to identify α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xample, let’s assume the following cointegrating equa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5"/>
              <p:cNvSpPr txBox="1"/>
              <p:nvPr/>
            </p:nvSpPr>
            <p:spPr>
              <a:xfrm>
                <a:off x="2971800" y="3048120"/>
                <a:ext cx="31114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TextBox 11"/>
          <p:cNvSpPr/>
          <p:nvPr/>
        </p:nvSpPr>
        <p:spPr>
          <a:xfrm>
            <a:off x="144792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1295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5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trictions specified by the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constraint define 1 [_ce1]linvestment=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      </a:t>
            </a: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constraint define 2 [_ce1]lincome=-.7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constraint define 3 [_ce2]lconsumption=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constraint define 4 [_ce2]lincome=-.8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262626"/>
                </a:solidFill>
                <a:latin typeface="Tahoma"/>
              </a:rPr>
              <a:t>vec linvestment lincome lconsumption, rank(2) lags(2) noetable trend(none) bconstraints(1/4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762120" y="2438280"/>
            <a:ext cx="7696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ication:  beta is exactly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1)  [_ce1]linvestme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2)  [_ce1]lincome = -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3)  [_ce2]lconsumptio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4)  [_ce2]lincome = -.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ta |      Coef.   Std. Err.      z    P&gt;|z|     [95% Conf. Interval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ce1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vestment |          1          .        .       .            .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come |       -.75          .        .       .            .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consumption |  -.0343804   .0122816    -2.80   0.005    -.0584519    -.0103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ce2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vestment |  -.1745742     .00322   -54.22   0.000    -.1808852   -.1682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come |       -.85          .        .       .            .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consumption |          1          .        .       .            .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indefinite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indefinite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indefinite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indefinite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indefinite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1: Specifying the tim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2: Predictions with –arima-. Kalman Filter recu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3: Initial shock for Impulse response functions after -var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4: Unobserved component models with –sspace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 5: Restrictions on cointegrating relationship for VEC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echnical tips on time series with St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stavo Sánch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ior Statisticia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aCor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154240" y="5715000"/>
            <a:ext cx="55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201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an</a:t>
            </a: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Stata Users Group Meeting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P 1:Specifying the time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– Daily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put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   str12     dat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"1/01/2008"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"1/02/2008"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"1/03/2008"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"1/04/2008"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"1/05/2008"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generate mydate1=date(date,"DMY"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rmat    mydate1 %t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generate mydate2=date(date,"DMY“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rmat    mydate2 %tdmon-DD,_CCY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indefinite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indefinite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indefinite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indefinite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 – Daily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 list date mydate1 mydate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      date     mydate1     mydate2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--------------------------------------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 | 1/01/2008   01jan2008   jan-01, 2008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 | 1/02/2008   01feb2008   feb-01, 2008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 | 1/03/2008   01mar2008   mar-01, 2008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. | 1/04/2008   01apr2008   apr-01, 2008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 | 1/05/2008   01may2008   may-01, 2008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P 1:Specifying the tim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P 1:Specifying the time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– Daily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.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tsset mydate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time variable: mydate1, 01jan2008 to 01may2008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but with g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delta: 1 d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.  list mydate1 if tin(01feb2008,01apr200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+----------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|   mydate1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|-----------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2. | 01feb2008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3. | 01mar2008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4. | 01apr2008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+----------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P 1:Specifying the time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– Clock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Input         str20   etime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06feb2010 12:40:00"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06feb2010 12:42:00"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06feb2010 12:44:00"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06feb2010 12:46:00"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06feb2010 12:48:00"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generate double mytime = clock(etime, "DMY hms"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format mytime %tc DMYHH:MM: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indefinite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indefinite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indefinite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indefinite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indefinite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indefinite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indefinite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indefinite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indefinite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P 1:Specifying the time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– Clock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. tsset mytime,delta(2 minute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time variable: mytime, 06feb2010 12:40:00 to 06feb2010 12:48:0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delta:  2 minut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. generate my_ly=l.y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(1 missing value generated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. list mytime y ly my_ly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+---------------------------------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|             mytime   y    my_ly |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|---------------------------------|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1. | 06feb2010 12:40:00   2        . |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2. | 06feb2010 12:42:00   5        2 |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3. | 06feb2010 12:44:00   7        5 |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4. | 06feb2010 12:46:00   6        7 |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5. | 06feb2010 12:48:00   9        6 |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003366"/>
                </a:solidFill>
                <a:latin typeface="Courier New"/>
              </a:rPr>
              <a:t>+---------------------------------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indefinite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indefinite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indefinite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indefinite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 2: Predictions with -arima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alman Filter recu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4038480"/>
            <a:ext cx="7239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 li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fit the model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ma y, ma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we get th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dictions with: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ict double y_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181480" cy="561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8380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Let’s consider the following moving average (MA1) model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93600" y="3124080"/>
                <a:ext cx="3422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θε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5257800" y="3124080"/>
                <a:ext cx="3176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Box 9"/>
          <p:cNvSpPr/>
          <p:nvPr/>
        </p:nvSpPr>
        <p:spPr>
          <a:xfrm>
            <a:off x="4574160" y="3276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indefinite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indefinite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4:19:15Z</dcterms:created>
  <dc:creator>Gustavo</dc:creator>
  <dc:description/>
  <dc:language>en-US</dc:language>
  <cp:lastModifiedBy>Audiovisuales</cp:lastModifiedBy>
  <dcterms:modified xsi:type="dcterms:W3CDTF">2011-05-12T13:54:03Z</dcterms:modified>
  <cp:revision>765</cp:revision>
  <dc:subject/>
  <dc:title>Slide 1</dc:title>
</cp:coreProperties>
</file>