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B0E5-6AB9-4B18-B1AB-D342E374642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BDFC-FEF3-46B9-AE89-96BB196DD8D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25AF-D81A-4460-8449-1A51DCFF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C167-FB0F-456B-A4C8-2BA3BB1B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6C4-73CE-4B24-A08F-CBAC5F5C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93C-FA3B-4927-806B-65929BB5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54AE4-A82C-49E6-B60C-000D055E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A71E7-374C-4455-853C-7212260A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BB0D6-404F-43AB-AC67-9B5E0FC2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CAC2A-DBF7-4277-A974-7640DD6E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2EF61-9448-41F7-9362-AC6C91A1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D8D96-2E10-4B29-B2AB-39D50C22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A0FA5-F394-4FD2-993E-F9DDA378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2C7-67AB-4285-9640-D6DEAEAE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8BEB8-7227-4E58-A477-CFD00369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81207-6931-4715-A180-DB788F1A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40EA4-090B-4070-B869-436449C8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BD819-3ACF-4916-83D6-7DD38D22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0C457-637D-4C62-B45F-EC86294B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926-4C8E-4674-93FA-8322033A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BF9-49C4-4A43-8566-CAE9CE21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BE57-0A77-4C8C-BAAB-B3445430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3A6E-6DBE-4878-A065-D542B9FF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C655-36D9-4270-98CA-0FA6F755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101-9FC4-429E-BA3C-00D9270E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9B88-D38E-4D68-88F5-DA8E9E9B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8FDC-D52E-4E24-96EF-E7802763B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7866-208F-4979-A2A4-B6301DE69CED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9840" y="2514600"/>
            <a:ext cx="81741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17375e"/>
                </a:solidFill>
                <a:latin typeface="Calibri"/>
              </a:rPr>
              <a:t>UNA COMPARACIÓN DE LOS MODELOS POISSON Y BINOMIAL NEGATIVA CON STATA: UN EJERCICIO DIDÁCTIC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54440" y="4624200"/>
            <a:ext cx="434664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Arial"/>
                <a:ea typeface="Arial"/>
              </a:rPr>
              <a:t>Fortino Vela Pe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4643280"/>
            <a:ext cx="47750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Noé Becerra Rodrígue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050920" y="5553000"/>
            <a:ext cx="4346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Mayo,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63440" y="1533600"/>
            <a:ext cx="8694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3er Encuentro de Usuarios de Stata en Mé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10 Imagen" descr="LOGO UAMX DP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5280" y="571680"/>
            <a:ext cx="8080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Bajo el supuesto de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varianza proporcional a la media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 el ajuste de los errores estándar  de MV da por resultado a los errores estándar de los modelos lineales generalizados (GML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4200" y="457200"/>
            <a:ext cx="878688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99"/>
                </a:solidFill>
                <a:latin typeface="Calibri"/>
              </a:rPr>
              <a:t>Modelo de regresión binomial negativa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0805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l enfoque QML no permite calcular probabilidades condicionales del tip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95280" y="3645000"/>
            <a:ext cx="80805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olo se es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2"/>
              <p:cNvSpPr txBox="1"/>
              <p:nvPr/>
            </p:nvSpPr>
            <p:spPr>
              <a:xfrm>
                <a:off x="2627280" y="2276640"/>
                <a:ext cx="35290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y</m:t>
                        </m:r>
                        <m:sSub>
                          <m:e/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y</m:t>
                            </m:r>
                          </m:sup>
                        </m:sSubSup>
                      </m:num>
                      <m:den>
                        <m:r>
                          <m:t xml:space="preserve">y</m:t>
                        </m:r>
                        <m:r>
                          <m:t xml:space="preserve">¡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3"/>
              <p:cNvSpPr txBox="1"/>
              <p:nvPr/>
            </p:nvSpPr>
            <p:spPr>
              <a:xfrm>
                <a:off x="2843280" y="4365720"/>
                <a:ext cx="18000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"X \)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Rectangle 3"/>
          <p:cNvSpPr/>
          <p:nvPr/>
        </p:nvSpPr>
        <p:spPr>
          <a:xfrm>
            <a:off x="395280" y="5229360"/>
            <a:ext cx="80805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 necesario considerar modelos altern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0805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Una posibilidad es (Cameron y Trivedi, 1986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95280" y="3645000"/>
            <a:ext cx="80805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tra es (Cameron y Trivedi, 1986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"/>
              <p:cNvSpPr txBox="1"/>
              <p:nvPr/>
            </p:nvSpPr>
            <p:spPr>
              <a:xfrm>
                <a:off x="1692360" y="1484280"/>
                <a:ext cx="47163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/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2874960" y="2349360"/>
                <a:ext cx="11206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Rectangle 3"/>
          <p:cNvSpPr/>
          <p:nvPr/>
        </p:nvSpPr>
        <p:spPr>
          <a:xfrm>
            <a:off x="826920" y="2421000"/>
            <a:ext cx="712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algún                a ser estim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536600" y="1620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793800" y="4381560"/>
                <a:ext cx="62992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/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Rectangle 3"/>
          <p:cNvSpPr/>
          <p:nvPr/>
        </p:nvSpPr>
        <p:spPr>
          <a:xfrm>
            <a:off x="826920" y="5229360"/>
            <a:ext cx="7129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algún </a:t>
            </a:r>
            <a:r>
              <a:rPr b="0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MX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&gt;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7525440" y="45086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533520" y="590400"/>
            <a:ext cx="7848360" cy="5996160"/>
          </a:xfrm>
          <a:prstGeom prst="rect">
            <a:avLst/>
          </a:prstGeom>
          <a:ln w="0">
            <a:noFill/>
          </a:ln>
        </p:spPr>
      </p:pic>
      <p:sp>
        <p:nvSpPr>
          <p:cNvPr id="132" name="3 CuadroTexto"/>
          <p:cNvSpPr/>
          <p:nvPr/>
        </p:nvSpPr>
        <p:spPr>
          <a:xfrm>
            <a:off x="533520" y="2286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85800" y="512640"/>
            <a:ext cx="8158320" cy="59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8764560" cy="4228920"/>
          </a:xfrm>
          <a:prstGeom prst="rect">
            <a:avLst/>
          </a:prstGeom>
          <a:ln w="0">
            <a:noFill/>
          </a:ln>
        </p:spPr>
      </p:pic>
      <p:sp>
        <p:nvSpPr>
          <p:cNvPr id="135" name="2 CuadroTexto"/>
          <p:cNvSpPr/>
          <p:nvPr/>
        </p:nvSpPr>
        <p:spPr>
          <a:xfrm>
            <a:off x="380880" y="304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stadística descriptiva de las pub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8853480" cy="5638680"/>
          </a:xfrm>
          <a:prstGeom prst="rect">
            <a:avLst/>
          </a:prstGeom>
          <a:ln w="0">
            <a:noFill/>
          </a:ln>
        </p:spPr>
      </p:pic>
      <p:sp>
        <p:nvSpPr>
          <p:cNvPr id="137" name="2 CuadroTexto"/>
          <p:cNvSpPr/>
          <p:nvPr/>
        </p:nvSpPr>
        <p:spPr>
          <a:xfrm>
            <a:off x="0" y="1522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stimación Poi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2120" cy="5715000"/>
          </a:xfrm>
          <a:prstGeom prst="rect">
            <a:avLst/>
          </a:prstGeom>
          <a:ln w="0">
            <a:noFill/>
          </a:ln>
        </p:spPr>
      </p:pic>
      <p:sp>
        <p:nvSpPr>
          <p:cNvPr id="139" name="2 CuadroTexto"/>
          <p:cNvSpPr/>
          <p:nvPr/>
        </p:nvSpPr>
        <p:spPr>
          <a:xfrm>
            <a:off x="304920" y="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stimación MLG, familia Poisson y función de enlace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336600" y="1295280"/>
            <a:ext cx="8807400" cy="4857840"/>
          </a:xfrm>
          <a:prstGeom prst="rect">
            <a:avLst/>
          </a:prstGeom>
          <a:ln w="0">
            <a:noFill/>
          </a:ln>
        </p:spPr>
      </p:pic>
      <p:sp>
        <p:nvSpPr>
          <p:cNvPr id="141" name="2 CuadroTexto"/>
          <p:cNvSpPr/>
          <p:nvPr/>
        </p:nvSpPr>
        <p:spPr>
          <a:xfrm>
            <a:off x="533520" y="2286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stimación MLG, fam. Poisson, link log con opción scale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34680" cy="5153040"/>
          </a:xfrm>
          <a:prstGeom prst="rect">
            <a:avLst/>
          </a:prstGeom>
          <a:ln w="0">
            <a:noFill/>
          </a:ln>
        </p:spPr>
      </p:pic>
      <p:sp>
        <p:nvSpPr>
          <p:cNvPr id="143" name="2 CuadroTexto"/>
          <p:cNvSpPr/>
          <p:nvPr/>
        </p:nvSpPr>
        <p:spPr>
          <a:xfrm>
            <a:off x="380880" y="1522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stimación Binomial Neg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512280"/>
            <a:ext cx="829152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99"/>
                </a:solidFill>
                <a:latin typeface="Calibri"/>
              </a:rPr>
              <a:t>Motivació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362800" cy="10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SzPct val="8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Actividad docente en los temas de econometría a nivel licenciatura y posgr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4000" y="4343400"/>
            <a:ext cx="8362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Modelos más realistas a situaciones que se presentan en diferentes campos disciplin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700"/>
              </a:spcBef>
              <a:buClr>
                <a:srgbClr val="ffffff"/>
              </a:buClr>
              <a:buSzPct val="8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Forma sencilla de temas avanz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262160" y="2714760"/>
            <a:ext cx="43099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descriptiva.wordpres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inferencial.wordpres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regresion.wordpres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tregresion.wordpres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755200" cy="5594400"/>
          </a:xfrm>
          <a:prstGeom prst="rect">
            <a:avLst/>
          </a:prstGeom>
          <a:ln w="0">
            <a:noFill/>
          </a:ln>
        </p:spPr>
      </p:pic>
      <p:sp>
        <p:nvSpPr>
          <p:cNvPr id="145" name="2 CuadroTexto"/>
          <p:cNvSpPr/>
          <p:nvPr/>
        </p:nvSpPr>
        <p:spPr>
          <a:xfrm>
            <a:off x="228600" y="228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stimación MLG, familia Binomial Negativa, link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19792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86600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53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4200" y="457200"/>
            <a:ext cx="878688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99"/>
                </a:solidFill>
                <a:latin typeface="Calibri"/>
              </a:rPr>
              <a:t>Modelos de variable dependiente limitada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285560"/>
            <a:ext cx="808056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Admiten trabajar con  variables dependientes con un rango restringido de valores (binarias con valores 0 y 1, valores enteros, etc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492200" y="2743200"/>
            <a:ext cx="6580080" cy="31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0e5"/>
              </a:buClr>
              <a:buSzPct val="8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ción bin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0e5"/>
              </a:buClr>
              <a:buSzPct val="8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ción discr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0e5"/>
              </a:buClr>
              <a:buSzPct val="8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ción múlti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0e5"/>
              </a:buClr>
              <a:buSzPct val="8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os de recu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0e5"/>
              </a:buClr>
              <a:buSzPct val="8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b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0e5"/>
              </a:buClr>
              <a:buSzPct val="8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sur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0e5"/>
              </a:buClr>
              <a:buSzPct val="8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n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4200" y="457200"/>
            <a:ext cx="878688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99"/>
                </a:solidFill>
                <a:latin typeface="Calibri"/>
              </a:rPr>
              <a:t>Modelo de datos de recuent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499760"/>
            <a:ext cx="80805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Aquel  que tiene como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variable dependiente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una variable discreta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de conteo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que toma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valores no negativos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Modelos de regresión Poisson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Modelos de regresión binomial negativa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Modelos de regresión exponenc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5280" y="642600"/>
            <a:ext cx="8080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os modelos de datos de conteo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se caracterizan porque no tienen un límite superior natural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, toman valor cero (en un porcentaje no despreciable) para algunos miembros de la población y suelen tomar pocos val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l objetivo consiste en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modelar la distribución de Y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dado un conjunto de características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     eligiendo formas funcionales que aseguren valores positiv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3419640" y="4734000"/>
                <a:ext cx="29052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4200" y="457200"/>
            <a:ext cx="878688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99"/>
                </a:solidFill>
                <a:latin typeface="Calibri"/>
              </a:rPr>
              <a:t>Modelo de regresión Poiss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0805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just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variable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toma pocos valores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just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Modelar la distribución de Y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dado X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asumiendo que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Y dado X</a:t>
            </a: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,…,X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sigue una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distribución Poisson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, esto e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2"/>
              <p:cNvSpPr txBox="1"/>
              <p:nvPr/>
            </p:nvSpPr>
            <p:spPr>
              <a:xfrm>
                <a:off x="2482920" y="3213000"/>
                <a:ext cx="36734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y</m:t>
                            </m:r>
                          </m:sup>
                        </m:sSubSup>
                      </m:num>
                      <m:den>
                        <m:r>
                          <m:t xml:space="preserve">y</m:t>
                        </m:r>
                        <m:r>
                          <m:t xml:space="preserve">¡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3"/>
          <p:cNvSpPr/>
          <p:nvPr/>
        </p:nvSpPr>
        <p:spPr>
          <a:xfrm>
            <a:off x="668160" y="4363920"/>
            <a:ext cx="80805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 bien, el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valor esperado de Y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dado X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, esto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3"/>
              <p:cNvSpPr txBox="1"/>
              <p:nvPr/>
            </p:nvSpPr>
            <p:spPr>
              <a:xfrm>
                <a:off x="3276720" y="5084640"/>
                <a:ext cx="19587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080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distribución Poisson viene determinada completamente por su media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(todos las probabilidades y momentos de orden superior están determinados por la medi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just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sto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mpone la restricción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(Y\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) = V(Y\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), la cual no siempre se cumple en las aplicaciones empíric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just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método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 de estimación a seguir es el de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máxima verosimilitud (MV)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 que podría ofrecer estimadores inconsistentes si la función de probabilidad no esta bien especifica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571680"/>
            <a:ext cx="80805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No obstante, se pueden obtener estimadores consistentes y asintóticamente normales de las </a:t>
            </a:r>
            <a:r>
              <a:rPr b="0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 si la media condicional esta bien especifica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uando Y dado X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,…,X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 no sigue una distribución Poisson, el estimador que se obtiene de maximizar el logaritmo de la función de verosimilitud, L(</a:t>
            </a:r>
            <a:r>
              <a:rPr b="0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), se le denomina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estimador de cuasi máxima verosimilitud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QML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571680"/>
            <a:ext cx="8080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uando se estima por QML si no se cumple el supuesto de E(Y \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) = V(Y\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) es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necesario ajustar los errores estándar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Una posibilidad es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ajustar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 considerando que la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varianza es proporcional a la media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, esto es: V(Y\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MX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 E(Y \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),  donde </a:t>
            </a:r>
            <a:r>
              <a:rPr b="0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MX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s un parámetro desconocid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063800" y="4221000"/>
            <a:ext cx="7294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4f81bd"/>
              </a:buClr>
              <a:buSzPct val="8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1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quidispersió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4f81bd"/>
              </a:buClr>
              <a:buSzPct val="8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&gt; 1 se tiene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bredispersió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(muy comú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4f81bd"/>
              </a:buClr>
              <a:buSzPct val="8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&lt; 1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fradispersió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(poco comú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1:22:59Z</dcterms:created>
  <dc:creator>Noé Becerra Rodríguez</dc:creator>
  <dc:description/>
  <dc:language>en-US</dc:language>
  <cp:lastModifiedBy>Gustavo Sanchez</cp:lastModifiedBy>
  <dcterms:modified xsi:type="dcterms:W3CDTF">2011-05-23T18:52:22Z</dcterms:modified>
  <cp:revision>7</cp:revision>
  <dc:subject/>
  <dc:title>Diapositiva 1</dc:title>
</cp:coreProperties>
</file>