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8E5-C9AB-43CB-AEB7-B565A3CD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006-4B9B-4FFE-A0AC-9574689B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D8D-7770-4B67-A5C8-EB11E531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749-8002-4D79-9822-3AA82843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28C-6075-44BC-8DCD-E1FC8A3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37E-4FB9-4D60-B362-B272287B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D4D-8F5E-45B2-8569-80166EE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6B6-448D-489E-87E7-1C52B8AC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2C7-0301-4260-8EB3-30CC66F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D8C-0C0E-4C57-AB64-0CE4DA9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831-4833-4060-B3AE-4B5C782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A54-F0AD-4B69-A917-AD45894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28E-48A2-4AA0-A8E0-D73AC23E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trategy and tactics for                  graphic multiples in St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icholas J. C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partment of Ge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urham University,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6021360"/>
            <a:ext cx="1333440" cy="5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C94-21E8-4512-B6A1-4CF0F0790E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simpl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tructure of the data is already well known. The challenge is how best to presen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re are three categori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jor (anonymously A, B, C, D, E, 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gender (male, fem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cision (accept, reje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 the data are just 24 frequen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643-D46C-4630-B77D-293810A011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researchers would reach first for a bar ch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is a slightly non-standard example, produced by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tab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, which is for one-way, two-way or three-way bar cha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ne feature here is showing numbers too in a hybrid of graph and 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cosmetic detail is toning down the use of colour. Large blocks with strong colours are unsubt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86D-AB7E-4AE0-A545-D9A9E8CEEB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CCD-83CD-453A-82BE-8643BEB412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Mosaic plot or spine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previous bar chart omitted the frequencies. We can show them using a mosaic plot or spinepl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proportions of both variables are shown, giving marginal and conditional distrib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reas of tiles are proportional to raw frequencies. Departures from independence are easily s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program here i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ine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ECF-A895-4CA3-A5DD-14468C0DFE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C80-F504-4AA5-8F16-941076F485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rilling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bar chart and spineplot do a fair job of showing the gross breakdown with four perc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Two are redunda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edictably, both would be rejected as trivial by many journal reviewers, but both could be useful for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clearly we need to drill down to see the patterns for different maj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22E-9281-40F7-ADC6-93954A318A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More detailed 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acking bars is a standard strategy, but the result is immediately much more complic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howing all the detail does not always help. Focusing more sharply on the response of interest is a way forw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general there is no need for alphabetical order. Here majors A to F are already ordered by admission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C98-DF56-47C3-A981-14BFFA6445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4AF-B792-4578-B0C2-68B1B77F42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ot ch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ot charts as advocated by W.S. Cleveland remain under-used by comparison with bar cha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Stata that usually mean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y using marker position alone, rather than bar length, they are less busy and thus ease more detailed compari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it is easier to identify that female admission rates are higher for four majors and lower for the other tw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2FC-96E4-4794-A9AE-7465E0233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03872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D41-03AC-4904-87F0-AF650EABAA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useful graphs compare two or more sets of values,  and so can be thought as of multi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ften there can be a fine line between richly detailed graphics and busy, unintelligible graphics that lead no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this presentation I survey strategy and tactics for developing good graphic multiples in St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4AC-3B3F-4309-8DD8-0EE70FA7F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tails for dot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en symbols (e.g.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"/>
              </a:rPr>
              <a:t>○ not ●) tolerate overlap much better than closed symbols. ○ can even be combined with + whenever nearly equal values are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egends (keys) are at best a necessary evil. Self-explanatory or at least memorable symbolisation is to be prized wherever it is possible. Using </a:t>
            </a:r>
            <a:r>
              <a:rPr b="0" lang="en-GB" sz="2800" spc="-1" strike="noStrike">
                <a:solidFill>
                  <a:srgbClr val="6699ff"/>
                </a:solidFill>
                <a:latin typeface="Georgia"/>
              </a:rPr>
              <a:t>blue for male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GB" sz="2800" spc="-1" strike="noStrike">
                <a:solidFill>
                  <a:srgbClr val="ff99ff"/>
                </a:solidFill>
                <a:latin typeface="Georgia"/>
              </a:rPr>
              <a:t>pink for female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is a simple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370-99BC-4D2C-97D6-C04A797BE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scatter pl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statistically-minded people find the idea of bar charts trivial, but their practice not very helpful. Where is the scatter plot, they c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ting admission rate against number of applicants re-introduces a crucial aspect, size of major. This allows identification of positive correlation for males and negative correlation for females, hence the parado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is is currently my favourite plot for these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E96-58BE-439F-9BDB-192ED936FF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E85-CE88-4C0E-AEF9-EC98FD25D8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Previous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an earlier version of this plot I had admissions versus applications, both raw frequen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ference lines here are lines through the origin such as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y = x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= 0.5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for 100% and 50% admission r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it is simpler to plot admission rates. Then the reference lines are horizontal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867-2DA3-4326-8D51-0B43C43AF9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Slogans: the banal in search of the pro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cus as far as possible on the response or outcome, the variable you most want to expl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near reference patterns are good and horizontal  patterns b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mit what is unimportant and keep what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Even for a very simple problem, it is rare that a single graph meets all nee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05D-E637-4264-B248-1E069B8FDC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ontinuous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54A-3F4C-4BBD-B0E6-7668419F8D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ostility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sults of an experiment reported by Atkinson, C. and J. Polivy. 1976. Effects of delay, attack, and retaliation on state depression and hostility.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Journal of Abnormal Psychology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85: 570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"/>
              </a:rPr>
              <a:t>–5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le and female subjects were made to wait and then either were insulted or received an ap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lf were given a chance to retaliate by negatively evaluating the experim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stility was measured before and after the experi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3A4-1D3A-43AD-9ECE-E799A58179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ariables in hostility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hange in hostility, a difference of scores and so approximately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edictors all bina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: insult, a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Gender: male,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taliation allowed: yes,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A13-FEEE-4E7C-A073-ED64A60080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eorgia"/>
              </a:rPr>
              <a:t>ANOVA-type problems: What to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hange in hostility is adequately modelled by a simple linear model, using analysis of vari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hat to plot for similar analyses is key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x plots (with medians etc.) are surprisingly common even when comparison of means is the central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ting means with standard errors or confidence intervals is also common, but what about the detail omitt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986-E9E5-4825-B175-F3458B3558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 (SS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n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 is named for its emphasis on plotting deviations. Deviations are measured from any level you care to specify, but deviations from means are the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as too ugly and “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iation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oo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Quantile enthusiasts will see it as a way to plot ordered quantiles side by side.  Compar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quantil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or 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q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J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F45-9A6E-4C03-B3AF-F2BB43C8B5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trategies: 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uperimpose (on top) or juxtapose (alongside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 different versions or reductions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ansform scales for easier compari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near referenc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ackdrops of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D42-9372-4935-BE7E-6B63FAAAB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yntax resembles standard modelling syntax, response named first and any predictors follow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ith one variable named we get in essence a quantile plot for that variable, a plot of the ordered values versus an implicit cumulative probability sc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caffolding emphasising that each value can be represented by a deviation from a level might seem redundant, but bear with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1AA-CD49-4079-8D5C-3C45861967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8A0-D575-40EF-BAC0-BE00BC3317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dding predictors to the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You can specify either one or two predi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result is a quantile plot for each subset, namely a category or combination of categ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 undocumented upper limit arising from a limit 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rap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s 20 subsets, but more than 20 would likely be too busy any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third binary predictor can be shown indirectly by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eparate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E90-AE8E-40FF-A3E3-C9FF900380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319-65E2-455B-A978-2AD386FF83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442-6AAC-46B2-994C-F86BCF0F2F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03872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C2C-37A7-470A-888D-DBEEACC8FB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irt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display serves well in showing variation within subsets as well as variation betw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teractions can be s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caffolding (in subtle gray) helps to tie the values of a group together visu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eparate(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option is best used to highlight a few unusual or interesting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21D-3029-4D45-A164-45CF3947C8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Waterfall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imilar plots have been called waterfall plots, especially in clinical onc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watch out: waterfall plots (or charts)  have at least two quite different meanings elsewhere, in business and physical science contex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metimes the jungle of plot names is just a confounded nuis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1FC-54CE-4D19-ADC4-D6672499D8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James Short 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e transit of Venus (1763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hort collated and corrected observations made by various astronomers during the transit of Venus in 17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arallax here is the angle subtended by the earth’s radius, as if viewed and measured from the surface of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data will be published and discussed in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tata Journal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13(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827-B042-4843-ADE6-21E5FDB05C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vi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deviation plot adjusts to the differing sample siz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deviations are relative to 25% trimmed means (otherwise known as midmeans or interquartile means). Boxplot fans can think that they average values within the bo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context here of careful precise measurement does not rule out the occasional mild or even strong outl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31C-3EEC-4AF9-B424-D4AB5CB833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actics: details of what to 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over()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by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s 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kill the key or lose the legend if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notations and self-explanatory ma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147-7F5B-427D-A2B8-30A88A4D8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49F-9211-4FE4-BC86-28958E9E2D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Quantile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viation plots (waterfall plots, if you prefer) are in essence quantile p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qplot  from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J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uperimpose through it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over()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r juxtapose through it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by()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ow well does that compare?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EFF-2C6B-49FB-8356-DED1FFA99B8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03872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DDB-AB56-449B-8AA1-4ABA675DA9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986-E5EF-4F55-8B2F-86072074C1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qplot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 prefer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here, although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q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has useful options too, including flexibility over axis sc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r example, if we plot against standard normal quantiles, normal (Gaussian) distributions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will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llow straight lines.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48C-9661-4706-AA4D-976F95C4335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CB3-E4CC-4B49-98DF-2D141DDC63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trip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 alternative display is a strip plot or dot plot. (Many other names exis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it takes on the flavour of a histogram but with markers or point symbols for each value. Some binning allows stac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trippl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rom SSC offers an alternative to official Stata’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otpl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BC3-AFC5-4812-9A26-6968D23D37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03872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056-70B5-4FF2-A5F1-83CBB5B4D9C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istograms or box plot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statistical people would start almost automatically with histograms or box plots for such data. How do they comp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You can judge for your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specific problem with histograms is keeping the amount of scaffolding down. It is easy to lose valuable real estate in axis and title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256-6AF7-4670-A201-D92427D9FEA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03872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B11-8717-4F6C-B4C9-8D9C5B0171C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atasets 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James Short’s collation from the transit of 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lorence Nightingale’s data on deaths in the Crim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aths from the Titanic s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Grunfeld pane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dmissions to Berkel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ostility in response to insult or a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luctuations in Arctic sea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FC5-F223-49D4-901D-561AE15E1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7FD-2207-4EA0-BA96-2B4530387E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ow did we do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main trick here is moving the subtitles to the left. It only works here because they are so short, but accept good fortune,  however it c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incantation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ubtitle(, ring(1) pos(9) nobox nobexp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B42-6739-4402-A05B-44810015921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ox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x plots do work fairly well, but they just leave out too much detail for my t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f the details are accessible, you can decide for yourself whether they are triv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32F-EE49-4705-9B3A-441021ABCF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060-EC6B-4BC5-B664-01D704EA863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imed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931-B9FE-475D-B53A-E471E29D26C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mparisons of time series are an especially rich, and especially challenging, area of statistical graph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widespread term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paghetti plot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ints immediately at the difficul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s always, we want to combine a grasp of general patterns with access to individual det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F48-D858-4138-B799-4C161800FC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park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Grunfeld data (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webuse grunfeld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) are a classic dataset in panel-based econom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en companies were monitored for 1935–5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is can be an example for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arklin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nam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arklin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as suggested by Edward Tufte for intense text-like graphics.  Time series are the most obvious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948-56E0-47DA-8C1E-20E640CAF08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ertical and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y default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tacks small graphs vertic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f several graphs are combined, it is typical to cut down on axis labels and rely on differences in shape to convey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orizontal stacking is also supported, which can be useful for archaeological or environmental problems focused on variations with depth or he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0AA-BE09-4BD8-9498-69DACF23D24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FDD-43A1-40BF-8902-73EA63174E5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DE8-FA85-4935-ACFA-0FEAECCDBD5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riginal programs discussed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at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S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qplo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ta Journ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S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ine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J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tripplo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SS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abplo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S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5FB-042B-4B31-9BB9-4F7120F7C4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386-C05D-4F99-949E-6060A3788D3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Nightingale’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lorence Nightingale (1820-1910) is well remembered for her nursing in the Crimean war and less so as a pioneer in data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 most celebrated dataset is often reproduced using her polar diagram, but is easier to think about as time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Zymotic (loosely, infectious) disease mortality dominates other kinds, so much so that a square root scale helps comparison. (A logarithmic scale over-transforms her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031-868E-4993-87D6-209FFF6CD2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35F-ADDA-4A99-B3D3-F5CFE8A3BCF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43E-C691-4D35-9D8A-6797639EBD2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park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sparkline display is useful to show relative shape, such as times of pea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 see that seasonality is only part of what is being seen. The harsh winter of 1854–5 coincided with some of the hardest battles of the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017-F714-43ED-B8C9-B366934ADA9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FD2-A46B-4E6F-9691-C9AA3D7E501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rctic sea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other time series example concerns seasonal variation in Arctic sea ice for 2002-13, just 12 annual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usual spaghetti plot shows the similarity of series well, but makes comparing them difficult. Although some people try using a key or legend, that rarely works well beyond a very few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eparating out the series runs into the opposite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2EC-4F0A-4D8D-9E68-D5FE111F704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2EC-3490-4D6E-8E66-C7FC52D41D8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DEF-0343-40F1-90F0-ED701F7E031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ombine: backdrop as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, use both ide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 all data as a backdr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ubdued, say using grayscal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 each series within its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with stronger colour, thicker li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ee for discuss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x, N. J. 2010. Graphing subsets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ta Journa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: 670–68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CF6-E8A0-4C79-AEF9-50392EC8775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ategorical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651040"/>
            <a:ext cx="90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527-00DE-4D3C-84B6-F0EC6B14B9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8AC-CA42-4085-95E6-24252D99E57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ross-fert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A0E-EB74-4486-8609-F66450D0DED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itan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Titanic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ank in 191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atistically, we want to explain fraction survived in terms of age, sex and class of those on bo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standard graph is a stacked or divided bar graph, but it lacks punch. The command used wa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at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(SS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, we end with something rather different, produced with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0DA-B766-4F29-B56C-7C3524FE130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1F9-0E4C-4438-B684-7FB64706E6C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513-71B5-4F13-B0B1-9C7D7DA3D85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erkeley admission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classic dataset covers admissions to six graduate majors by gender at UC Berkele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t first sight, females were discriminated again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there is an underlying interaction: major by major, females generally do well, yet their acceptance rates are worse on more popular maj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is is an example of an amalgamation paradox  named for E.H. Simpson (1922–) but known to K. Pearson (1857–1936) and G.U. Yule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871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51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593-D719-4892-8DBB-06C735D48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erkeley data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original reference was Bickel, P.J., E.A. Hammel and J.W. O’Connell. 1975. Sex bias in graduate admissions: Data from Berkeley.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cienc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187: 398–4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Berkeley data were discussed as an example for Stata in   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, N.J. 2008. Spineplots and their kin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ta Journ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8: 105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43E-3830-4E40-A4BB-07EEFD4CAD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08:29:36Z</dcterms:created>
  <dc:creator>Irene Cox</dc:creator>
  <dc:description/>
  <dc:language>en-US</dc:language>
  <cp:lastModifiedBy>Irene Cox</cp:lastModifiedBy>
  <dcterms:modified xsi:type="dcterms:W3CDTF">2013-09-10T23:30:15Z</dcterms:modified>
  <cp:revision>14</cp:revision>
  <dc:subject/>
  <dc:title>Strategy and tactics for                  graphic multiples in Stata</dc:title>
</cp:coreProperties>
</file>