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A1F-2760-4232-BB60-18CD84E4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33C-40DE-4243-9D0B-2D24BE8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BB1-74D0-4653-8287-EE6AA78A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341-282C-4F24-91D3-38BE258C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FEE-0714-436E-9907-68134E2F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D07-8401-487A-9513-CC2CE408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FF0-8A03-4707-AA8E-C658EB9A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F6C-D793-4C09-A1E6-ACDBEA95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6C4-9B5E-4DDD-A61D-48D88B2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57F-D98C-425D-B41F-2938BBA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779-22A7-4FD4-94BF-ACB7156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129-EA22-4D13-B133-DC489E4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B211-406C-4C2B-ADA1-7BC0DC0B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trategy and tactics for                  graphic multiples in St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Nicholas J. C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partment of Ge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urham University,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6021360"/>
            <a:ext cx="1333440" cy="5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CFB-9EFC-4844-8FA7-43528BEC8F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simpl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structure of the data is already well known. The challenge is how best to present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re are three categoric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jor (anonymously A, B, C, D, E, 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gender (male, fem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cision (accept, reje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 the data are just 24 frequen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0D1-712C-43D7-A520-356A3F3725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ny researchers would reach first for a bar ch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is a slightly non-standard example, produced by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tabplot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SC), which is for one-way, two-way or three-way bar char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ne feature here is showing numbers too in a hybrid of graph and t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cosmetic detail is toning down the use of colour. Large blocks with strong colours are unsubt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617-1DA8-4F9C-A0B1-3A002620F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78F-D013-4C19-B145-7AF3F3F243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Mosaic plot or spine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previous bar chart omitted the frequencies. We can show them using a mosaic plot or spinepl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proportions of both variables are shown, giving marginal and conditional distrib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reas of tiles are proportional to raw frequencies. Departures from independence are easily s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program here i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ine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490-E15E-4F46-8D06-7F5EBE3986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87B-68B2-4201-9E2C-69837142E9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rilling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bar chart and spineplot do a fair job of showing the gross breakdown with four perc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Two are redunda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edictably, both would be rejected as trivial by many journal reviewers, but both could be useful for prese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t clearly we need to drill down to see the patterns for different maj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DBC-B95D-492A-9FC8-A1EBB12B1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More detailed 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tacking bars is a standard strategy, but the result is immediately much more complic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howing all the detail does not always help. Focusing more sharply on the response of interest is a way forw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general there is no need for alphabetical order. Here majors A to F are already ordered by admission 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99F-6B55-4AB9-AA60-402C1475A3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F3B-726B-4A62-9E1D-274364FA3B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ot ch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ot charts as advocated by W.S. Cleveland remain under-used by comparison with bar char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Stata that usually mean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graph d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y using marker position alone, rather than bar length, they are less busy and thus ease more detailed compari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it is easier to identify that female admission rates are higher for four majors and lower for the other tw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FC4-0CB0-4C4A-9AF8-3E075FE248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038720" cy="51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CAA-FCAC-411C-9C84-FB564BD383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ny useful graphs compare two or more sets of values,  and so can be thought as of multi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ften there can be a fine line between richly detailed graphics and busy, unintelligible graphics that lead no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this presentation I survey strategy and tactics for developing good graphic multiples in St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DA7-5D0D-4F50-8EA7-8D81F16096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etails for dot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en symbols (e.g.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"/>
              </a:rPr>
              <a:t>○ not ●) tolerate overlap much better than closed symbols. ○ can even be combined with + whenever nearly equal values are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egends (keys) are at best a necessary evil. Self-explanatory or at least memorable symbolisation is to be prized wherever it is possible. Using </a:t>
            </a:r>
            <a:r>
              <a:rPr b="0" lang="en-GB" sz="2800" spc="-1" strike="noStrike">
                <a:solidFill>
                  <a:srgbClr val="6699ff"/>
                </a:solidFill>
                <a:latin typeface="Georgia"/>
              </a:rPr>
              <a:t>blue for males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lang="en-GB" sz="2800" spc="-1" strike="noStrike">
                <a:solidFill>
                  <a:srgbClr val="ff99ff"/>
                </a:solidFill>
                <a:latin typeface="Georgia"/>
              </a:rPr>
              <a:t>pink for females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is a simple ex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3EC-1F8D-4EE3-A1D9-9B683BE5EC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 scatter pl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ny statistically-minded people find the idea of bar charts trivial, but their practice not very helpful. Where is the scatter plot, they c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ting admission rate against number of applicants re-introduces a crucial aspect, size of major. This allows identification of positive correlation for males and negative correlation for females, hence the parado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is is currently my favourite plot for these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1F6-A7D1-414A-8C6C-42AA6A6E9E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464-834E-4920-834A-89406E9E10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Previous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an earlier version of this plot I had admissions versus applications, both raw frequen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ference lines here are lines through the origin such as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y = x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= 0.5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for 100% and 50% admission r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t it is simpler to plot admission rates. Then the reference lines are horizontal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1AA-43F5-4ACB-ACE9-434F102066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Slogans: the banal in search of the pro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cus as far as possible on the response or outcome, the variable you most want to expl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near reference patterns are good and horizontal  patterns b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mit what is unimportant and keep what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Even for a very simple problem, it is rare that a single graph meets all nee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298-8FF2-4282-BD3D-87718A4A4C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ontinuous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A23-817E-4AE3-BE5F-26950DD4B8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Hostility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sults of an experiment reported by Atkinson, C. and J. Polivy. 1976. Effects of delay, attack, and retaliation on state depression and hostility.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Journal of Abnormal Psychology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85: 570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  <a:ea typeface="Arial"/>
              </a:rPr>
              <a:t>–5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le and female subjects were made to wait and then either were insulted or received an ap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lf were given a chance to retaliate by negatively evaluating the experim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stility was measured before and after the experi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FA2-39CE-43E2-BBE4-DAC761D8F1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ariables in hostility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hange in hostility, a difference of scores and so approximately 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redictors all bina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eatment: insult, a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Gender: male,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Retaliation allowed: yes,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7B4-C36F-4E1A-B777-21AF6A99C5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eorgia"/>
              </a:rPr>
              <a:t>ANOVA-type problems: What to pl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hange in hostility is adequately modelled by a simple linear model, using analysis of vari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hat to plot for similar analyses is key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ox plots (with medians etc.) are surprisingly common even when comparison of means is the central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ting means with standard errors or confidence intervals is also common, but what about the detail omitt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B71-0977-4ECE-B3D0-33251136B1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vnplot (SS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nplot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SC) is named for its emphasis on plotting deviations. Deviations are measured from any level you care to specify, but deviations from means are the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as too ugly and “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iation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oo l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Quantile enthusiasts will see it as a way to plot ordered quantiles side by side.  Compar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quantil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or 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q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J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305-CB6F-4036-BA9D-CFA6B12077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trategies: what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uperimpose (on top) or juxtapose (alongside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 different versions or reductions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ransform scales for easier compari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linear referenc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ackdrops of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A3A-084A-473F-B5E9-DDCC76869C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syntax resembles standard modelling syntax, response named first and any predictors follow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ith one variable named we get in essence a quantile plot for that variable, a plot of the ordered values versus an implicit cumulative probability sc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scaffolding emphasising that each value can be represented by a deviation from a level might seem redundant, but bear with 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B28-7DFB-4667-B5DB-1C644B81A7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64B-E16C-4BB9-B288-52BA74FC6E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dding predictors to the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You can specify either one or two predi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result is a quantile plot for each subset, namely a category or combination of categ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 undocumented upper limit arising from a limit 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grap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s 20 subsets, but more than 20 would likely be too busy any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third binary predictor can be shown indirectly by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eparate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1E1-353B-48CC-88C9-C3F928FAD1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084-8C25-4976-8909-F0F036EBA7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DB4-1C08-4E14-9C58-8AE049886A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03872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39F-ADE1-455A-86E0-CA132FBA5B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vnplot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irt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display serves well in showing variation within subsets as well as variation betw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teractions can be s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scaffolding (in subtle gray) helps to tie the values of a group together visu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eparate(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option is best used to highlight a few unusual or interesting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916-3E32-4160-B308-A0AFBFF290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Waterfall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imilar plots have been called waterfall plots, especially in clinical onc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t watch out: waterfall plots (or charts)  have at least two quite different meanings elsewhere, in business and physical science contex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metimes the jungle of plot names is just a confounded nuis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B04-69E5-4C66-A423-30E1AF9746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James Short and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e transit of Venus (1763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hort collated and corrected observations made by various astronomers during the transit of Venus in 17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arallax here is the angle subtended by the earth’s radius, as if viewed and measured from the surface of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data will be published and discussed in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tata Journal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13(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8F7-8A4E-4ED5-94A6-5721C05023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eviation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deviation plot adjusts to the differing sample siz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deviations are relative to 25% trimmed means (otherwise known as midmeans or interquartile means). Boxplot fans can think that they average values within the bo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context here of careful precise measurement does not rule out the occasional mild or even strong outl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A92-6CE8-42A8-9C4D-2E486E2EE4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actics: details of what to 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over()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by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tions 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graph com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kill the key or lose the legend if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notations and self-explanatory mar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FDB-7F24-4E51-9660-50FF707687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129-9D2C-4FD0-80A9-704D7FF3D1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Quantile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viation plots (waterfall plots, if you prefer) are in essence quantile p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qplot  from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J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uperimpose through it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over()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r juxtapose through it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by()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ow well does that compare?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CE3-15CE-4DCC-9C17-D380D85D5B1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03872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3E4-7A7D-4E6E-8DBA-806B3F3BAF8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B9E-1878-4683-8020-D7D3D58494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qplot</a:t>
            </a: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 prefer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here, although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q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has useful options too, including flexibility over axis sc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r example, if we plot against standard normal quantiles, normal (Gaussian) distributions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will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llow straight lines.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0F2-738F-4839-BC10-8C5529844D3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AE2-1849-4673-B4A6-6F2B281C425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trip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 alternative display is a strip plot or dot plot. (Many other names exis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e it takes on the flavour of a histogram but with markers or point symbols for each value. Some binning allows stac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trippl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rom SSC offers an alternative to official Stata’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otpl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893-F2FD-4B30-A2FF-C674E379F6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03872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29A-CBBE-49A7-8667-7F5AEF83A2A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Histograms or box plot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ny statistical people would start almost automatically with histograms or box plots for such data. How do they compa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You can judge for your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specific problem with histograms is keeping the amount of scaffolding down. It is easy to lose valuable real estate in axis and title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130-8C1E-4E62-88AD-42938C3270E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03872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AF5-1030-42ED-B4B0-96CA0F3FE55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Datasets 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James Short’s collation from the transit of 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lorence Nightingale’s data on deaths in the Crime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deaths from the Titanic s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Grunfeld pane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dmissions to Berkel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ostility in response to insult or a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luctuations in Arctic sea 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35A-F7A2-4906-8E4D-ADC3A214F8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8B2-FB71-40ED-A169-55BB97EF783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How did we do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main trick here is moving the subtitles to the left. It only works here because they are so short, but accept good fortune,  however it c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incantation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ubtitle(, ring(1) pos(9) nobox nobexp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65D-E7A6-458B-9069-BC94B7AF4BE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ox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ox plots do work fairly well, but they just leave out too much detail for my t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f the details are accessible, you can decide for yourself whether they are triv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B5F-893D-4E90-AE54-34C4054C53B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28F-AE48-40CA-BD6D-B7DF4F44A7F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imed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03F-AEFD-419F-B382-F1F7DBC159F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mparisons of time series are an especially rich, and especially challenging, area of statistical graph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widespread term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paghetti plot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ints immediately at the difficul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s always, we want to combine a grasp of general patterns with access to individual det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844-6304-4BAD-B2DF-A8B7F4D5BDD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Console"/>
              </a:rPr>
              <a:t>spark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Grunfeld data (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webuse grunfeld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) are a classic dataset in panel-based econom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en companies were monitored for 1935–5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is can be an example for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arkline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S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name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arkline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as suggested by Edward Tufte for intense text-like graphics.  Time series are the most obvious ex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D5A-71D0-4CF8-818B-E9287556E61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Vertical and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y default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tacks small graphs vertic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f several graphs are combined, it is typical to cut down on axis labels and rely on differences in shape to convey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orizontal stacking is also supported, which can be useful for archaeological or environmental problems focused on variations with depth or he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BBD-A524-4E80-8BFD-07B28B4FD20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0D5-4FB3-47C3-A3C4-13CEBE9A9F3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ECB-84AC-4D34-965A-29F807AA0E3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riginal programs discussed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atplot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S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S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qplo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ta Journ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parkl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S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spineplot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J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tripplo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SS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abplo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S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F43-C260-43EB-AD76-549046E1A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42A-A296-463E-AA0E-680C4B7F01F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Nightingale’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lorence Nightingale (1820-1910) is well remembered for her nursing in the Crimean war and less so as a pioneer in data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Her most celebrated dataset is often reproduced using her polar diagram, but is easier to think about as time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Zymotic (loosely, infectious) disease mortality dominates other kinds, so much so that a square root scale helps comparison. (A logarithmic scale over-transforms her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4E5-A489-429E-9210-025D0A6D093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0B3-B26C-4283-A587-124FC84D755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A26-28B9-4F2D-BC70-B227A1AA2F1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Spark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sparkline display is useful to show relative shape, such as times of pea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e see that seasonality is only part of what is being seen. The harsh winter of 1854–5 coincided with some of the hardest battles of the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C21-CF34-41E6-AF5E-06928DE4EEB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E34-D8A4-498C-9ADF-43A56C07984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Arctic sea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other time series example concerns seasonal variation in Arctic sea ice for 2002-13, just 12 annual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usual spaghetti plot shows the similarity of series well, but makes comparing them difficult. Although some people try using a key or legend, that rarely works well beyond a very few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eparating out the series runs into the opposite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504-0E63-4D49-8D2F-1D603B2CEBE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114-8B57-4692-91DD-6869D00BAEE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ADA-E160-4BE3-9FC5-D3F7312C999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ombine: backdrop as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, use both ide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 all data as a backdr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subdued, say using grayscal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Plot each series within its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(with stronger colour, thicker li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ee for discuss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x, N. J. 2010. Graphing subsets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ta Journa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: 670–68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8B9-A161-4EC0-BF79-51DD5BF6D70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ategorical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651040"/>
            <a:ext cx="90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CE4-3D7B-4067-9EF9-0B562F4E04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29B-B3E1-42C7-AEE6-3DF5C7B1805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Cross-fert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BEC-C668-4E6A-AAD8-AF9CFD779FE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itan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Titanic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sank in 191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tatistically, we want to explain fraction survived in terms of age, sex and class of those on bo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standard graph is a stacked or divided bar graph, but it lacks punch. The command used was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cat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(SS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, we end with something rather different, produced with 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devnplot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82E-1CC0-4F8F-AE6E-091F7826CC4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039080" cy="51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98D-4253-4AB3-AF41-F0DD03517D7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03908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3D1-BF7C-4F38-AB02-9DC84D0E4E4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erkeley admissions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classic dataset covers admissions to six graduate majors by gender at UC Berkele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t first sight, females were discriminated again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ut there is an underlying interaction: major by major, females generally do well, yet their acceptance rates are worse on more popular maj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is is an example of an amalgamation paradox  named for E.H. Simpson (1922–) but known to K. Pearson (1857–1936) and G.U. Yule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871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951)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DEE-8896-40C9-9EA0-E6B7EABDF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Berkeley data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original reference was Bickel, P.J., E.A. Hammel and J.W. O’Connell. 1975. Sex bias in graduate admissions: Data from Berkeley.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Science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187: 398–4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Berkeley data were discussed as an example for Stata in   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, N.J. 2008. Spineplots and their kin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ta Journ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8: 105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04A-B962-465C-8FE6-9BF2A5D21E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08:29:36Z</dcterms:created>
  <dc:creator>Irene Cox</dc:creator>
  <dc:description/>
  <dc:language>en-US</dc:language>
  <cp:lastModifiedBy>Irene Cox</cp:lastModifiedBy>
  <dcterms:modified xsi:type="dcterms:W3CDTF">2013-09-10T23:30:15Z</dcterms:modified>
  <cp:revision>14</cp:revision>
  <dc:subject/>
  <dc:title>Strategy and tactics for                  graphic multiples in Stata</dc:title>
</cp:coreProperties>
</file>