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3.xml.rels" ContentType="application/vnd.openxmlformats-package.relationships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9.jpeg" ContentType="image/jpeg"/>
  <Override PartName="/ppt/media/image12.jpeg" ContentType="image/jpeg"/>
  <Override PartName="/ppt/media/image10.wmf" ContentType="image/x-wmf"/>
  <Override PartName="/ppt/media/image7.jpeg" ContentType="image/jpeg"/>
  <Override PartName="/ppt/media/image11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9ED7-D31E-4734-BEF1-85BC4C9BCA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698A-2933-43A1-94F8-17CC9FB56A0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D53A-F9A0-4296-8F8D-182A933E2D3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F1B0-6077-46FF-AE87-BDC83490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7CE7-8851-427C-B97F-A72E2B71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6A06-CFE2-4864-8379-EA6E81C3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A0FB-C3E6-41DF-B30E-6728F1B7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172F-69BC-4885-8288-9C670042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F26A-41DE-412D-8F4B-3ACCE158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0BAA-3BD5-4A47-8F4E-665CBDA6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8B0A-3BC1-46BB-809E-CE97923C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E042-9690-4956-AD0A-9C197858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AAE-D15D-4397-9789-FC3B1941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E108-D153-409B-9658-1DE7B27B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0ACA-B173-45C6-A0BE-B6607794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054E-2641-4ABA-B60F-51D248E5D574}" type="datetime">
              <a:rPr b="0" lang="en-GB" sz="1200" spc="-1" strike="noStrike">
                <a:solidFill>
                  <a:srgbClr val="898989"/>
                </a:solidFill>
                <a:latin typeface="Georgia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17D2-CF92-41C0-9BCA-784583E4D7C8}" type="slidenum">
              <a:rPr b="0" lang="en-GB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blog.stata.com/2011/08/22/use-poisson-rather-than-regress-tell-a-friend/" TargetMode="Externa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www.mathworks.com/moler/interp.pdf" TargetMode="External"/><Relationship Id="rId2" Type="http://schemas.openxmlformats.org/officeDocument/2006/relationships/hyperlink" Target="http://www.ai-geostats.org/pub/AI_GEOSTATS/AI_GEOSTATSData/sic97data_01.zi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GB" sz="3200" spc="-1" strike="noStrike">
                <a:solidFill>
                  <a:srgbClr val="000000"/>
                </a:solidFill>
                <a:latin typeface="Georgia"/>
              </a:rPr>
              <a:t>Between  and  beyond: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Georgia"/>
              </a:rPr>
              <a:t>Irregular  series,  interpolation, variograms,  and  smoothing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Nicholas J. Co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292720" y="4941720"/>
            <a:ext cx="255420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Interpolation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terpolation is the art of reading between the line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Historically, it is a deterministic process, often a matter of going beyond printed tables of function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(logarithmic, trigonometric, and so forth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 principle, we should worry about the statistical properties of interpolation.  It is local predic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 practice,  imputation now appears better known among statistical researcher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C629-E22E-44B8-B39F-E234FC9FD415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Interpolation in (official) Stata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ipolate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ommand for linear interpolation (and extrapolation) was added in Stata 3.1 (1993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Mata functions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Lucida Console"/>
              </a:rPr>
              <a:t>spline3() </a:t>
            </a: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0" lang="es-ES" sz="2400" spc="-1" strike="noStrike">
                <a:solidFill>
                  <a:srgbClr val="000000"/>
                </a:solidFill>
                <a:latin typeface="Lucida Console"/>
              </a:rPr>
              <a:t>spline3eval() </a:t>
            </a: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were added in Stata 9.0 (2005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0B60-F756-4333-B9B2-F6F27DF59F78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User-written programs on SSC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Programs (NJC) have been available from SSC for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ubic interpolation: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ipolate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(2002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ubic spline interpolation: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sipolate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(2009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piecewise cubic Hermite interpolation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pchipolate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(201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nearest neighbour interpolation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nnipolate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(201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 combined and extended program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mipolate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s now  available too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7E92-67FA-472C-B488-D3C4E2D8AB18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Two dimensions too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Note also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bipolat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(Joseph Canner, SSC) (2014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By default it uses quintic polynomial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Other  available methods include thin plate spline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nd Shepard’s method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Note also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twoway contour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6A97-A486-48D1-A3D0-1050A3632765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Lucida Console"/>
              </a:rPr>
              <a:t>mipolate </a:t>
            </a: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generalises </a:t>
            </a:r>
            <a:r>
              <a:rPr b="0" lang="en-GB" sz="4000" spc="-1" strike="noStrike">
                <a:solidFill>
                  <a:srgbClr val="000000"/>
                </a:solidFill>
                <a:latin typeface="Lucida Console"/>
              </a:rPr>
              <a:t>ipolat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terpolation is of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yvar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ith respect to specified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xvar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Prior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tsset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or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xtset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s not assumed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Regular spacing is not assumed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Multiple values of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yvar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 at the same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xvar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are averaged first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Groupwise operations using 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by: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are supported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290A-94AC-4AAB-8C3C-38C2FF488C87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Linear and cubic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Linear interpolation just uses  previous and following known values (only).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is is done by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ipolat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 and also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mipolate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by default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ubic interpolation is another classic method, using two previous and two following known values (only).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is is done by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mipolate, cubic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default of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mipolate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ith either method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(as with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ipolat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) is not to extrapolat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E36B-5770-4615-9C0A-420F46932C31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Un peu d’histoir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ubic interpolation, as a particular kind of polynomial interpolation, is often attributed to Joseph-Louis Lagrange (1736–1813) but was proposed earlier by Edward Waring (1735?–1798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 fact there is a long history of work with contributions by many outstanding mathematicians, not least Isaac Newton (1643–1727) and Leonhard Euler (1707–1783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377C-6C67-4B51-912D-528776AF598B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Lagrange                    Waring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9" name="Content Placeholder 7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2921040" cy="3286080"/>
          </a:xfrm>
          <a:prstGeom prst="rect">
            <a:avLst/>
          </a:prstGeom>
          <a:ln w="0">
            <a:noFill/>
          </a:ln>
        </p:spPr>
      </p:pic>
      <p:pic>
        <p:nvPicPr>
          <p:cNvPr id="100" name="Content Placeholder 6" descr=""/>
          <p:cNvPicPr/>
          <p:nvPr/>
        </p:nvPicPr>
        <p:blipFill>
          <a:blip r:embed="rId2"/>
          <a:stretch/>
        </p:blipFill>
        <p:spPr>
          <a:xfrm>
            <a:off x="5397480" y="2217600"/>
            <a:ext cx="2540160" cy="328932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9293-9090-45FD-AFC8-5C2D69A3FC33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Cubic spline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s before, we are using cubic polynomials locally, but they are constrained to join smoothly.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syntax is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 mipolate, splin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is is merely a wrapper for the official Mata functions.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s before, the default of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mipolate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ith this option is not to extrapolat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07FE-20D5-4B8A-B6DD-2AC5F4DAF2FF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Linear extrapolation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s with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ipolate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linear extrapolation is available as an option in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mipolat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to fill in missings at the end of serie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hat your teachers told you is true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extrapolation is dangerou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Don’t point that straight line: It can go off anywhere.”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(Allude here to Mark Twain on the Mississippi.)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27C4-66D8-4E11-A676-F8B16100E19F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Mind the gap!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Repeated reminder, London Undergroun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911760" cy="3270240"/>
          </a:xfrm>
          <a:prstGeom prst="rect">
            <a:avLst/>
          </a:prstGeom>
          <a:ln w="0">
            <a:noFill/>
          </a:ln>
        </p:spPr>
      </p:pic>
      <p:sp>
        <p:nvSpPr>
          <p:cNvPr id="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35DF-68D4-4996-9DF0-3BA310825C3C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Piecewise cubic Hermite interpolation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is method also uses piecewise cubics joining smoothly.  The syntax is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mipolate, pchip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interpolant is  shape-preserving  and cannot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overshoot locally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ections in which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yvar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s increasing, decreasing or constant with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xvar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remain so after interpola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Hence local maxima and minima also remain so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is interpolation method also extrapolat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46F6-D924-4B14-8A42-244A3FB892F7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800240"/>
            <a:ext cx="7848720" cy="9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Georgia"/>
              </a:rPr>
              <a:t>Charles Hermite (1822–1901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2" name="Picture Placeholder 7" descr=""/>
          <p:cNvPicPr/>
          <p:nvPr/>
        </p:nvPicPr>
        <p:blipFill>
          <a:blip r:embed="rId1"/>
          <a:srcRect l="0" t="22243" r="0" b="22243"/>
          <a:stretch/>
        </p:blipFill>
        <p:spPr>
          <a:xfrm>
            <a:off x="2916360" y="1413000"/>
            <a:ext cx="3282840" cy="28162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3C96-F185-48B0-9BDD-1D93295A0E1D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Inverse distance weighting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terpolation can use a weighted average of known values, the weights being inverse powers of distance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from unknown valu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f I don’t know the value at 42, 41 and 43 are distance 1 away, 40 and 44 distance 2, and so 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For weights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Georgia"/>
              </a:rPr>
              <a:t>-p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limiting case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p =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makes all weights equal, and so the interpolant is the overall mean, while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very large means that only the very nearest values have effect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BA10-3C30-405D-A5C9-87F77A4C0518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Other method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mipolat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adds forward, backward, nearest neighbour and groupwise interpola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Use the previous, next or the nearest known value. Or extend the single non-missing value in a group to all other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Using the last known value is often dubious statistically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but it is a very common request in data management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other methods are provided  partly for completenes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There is small print  (option choices) about how to break ties when two values are equally near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21B1-8155-4FBF-95E7-723832116253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Lucida Console"/>
              </a:rPr>
              <a:t>mipolate </a:t>
            </a: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Nine method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linear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ubic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(cubic)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plin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pchi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idw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forward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backward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nearest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oupwis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Linear extrapolation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ye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F5F4-0D85-4235-A063-1E3FE72B9D23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3352-E995-4F3A-8505-15FB123F72A1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6755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4F01-3E07-40FC-9371-8E46125D03CB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6737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Simple message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re are many interpolation methods to choose from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y will often disagree, even for simple-looking instanc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Disagreement gives a handle on uncertainty.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 a real problem, simulate missings and test how well known values are estimated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hat makes most sense in your problem will reflect its dependence structur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4616-BF5E-4E81-A669-264047A617C6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e turn from a project that is done to one that is very much in progres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397E-326D-4D6A-9B82-7FFBDD5EC48F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Variogram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Variograms (more properly semivariograms) are plots of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(mean)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 half difference between values squar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versu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separation, distance or lag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By a tempting abuse of terminology, we often use the same name for the underlying relationship as a func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07F6-F547-48E5-AEE3-0E3A9C1DB5C3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Executive summary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 new program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mipolate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for several kinds of interpolation is now availabl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t can be downloaded from SSC (3 September 2015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Variograms are useful for examining dependence structure in time and spatial serie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ork is in progress on a new program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vgram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for variogram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6272-42A7-4ED9-8BCF-723362C42FD3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First known use of term ‘variogram’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Geoffrey H. Jowett (1922– ) in 1955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comparison of means of sets of observations from sections of independent stochastic serie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Journal of the Royal Statistical Society. Series B (Methodological) 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17: 208–227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F5C9-637C-4987-8A59-87CD89CDF2D8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Spatial and time serie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Variograms are central to one approach to spatial statistics, in this context often known as geostatistic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Georges Matheron (1930–2000) is most often mentioned her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But variograms can be very useful for time series too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3" name="Content Placeholder 5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84720" cy="4464000"/>
          </a:xfrm>
          <a:prstGeom prst="rect">
            <a:avLst/>
          </a:prstGeom>
          <a:ln w="0">
            <a:noFill/>
          </a:ln>
        </p:spPr>
      </p:pic>
      <p:sp>
        <p:nvSpPr>
          <p:cNvPr id="1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20A1-D13F-4B93-9755-795097A996FE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Time series too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Variograms are prominent in these texts on time series and longitudinal data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Diggle, P.J. 1990.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Time Series: A Biostatistical Introduction.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Oxford: Oxford University Pres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Diggle, P.J., Heagerty, P.J., Liang, K-Y. and Zeger, S.L. 2002.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Analysis of Longitudinal Data.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Oxford: Oxford University Pres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6031-7DE7-476B-B50D-2D7FE728528F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User-written programs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Programs (NJC) are available from SSC for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variograms in one dimension: 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variog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(2005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variograms in two dimensions: 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variog2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(2005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 combined and extended program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vgram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s under development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48F3-418F-4469-B2CB-5C6AFF7889B5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Generality of variogram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o, variograms are – without undue strain – defined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for  time series and for spatial series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hether regular or irregular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s they just depend on separation being measured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Plotting the mean for each distinct separation i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 common, but not compulsory, conven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0BA4-67C5-42BE-BBB4-C0F98749BF48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A simple example: </a:t>
            </a:r>
            <a:r>
              <a:rPr b="0" lang="en-GB" sz="4000" spc="-1" strike="noStrike">
                <a:solidFill>
                  <a:srgbClr val="000000"/>
                </a:solidFill>
                <a:latin typeface="Lucida Console"/>
              </a:rPr>
              <a:t>webuse air2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8A3A-7183-4A30-9599-4722B6F40F7B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16256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Variograms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vgram ai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5080" y="1197000"/>
            <a:ext cx="4030560" cy="97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vgram air, recast(connected) xla(0(12)7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2879-246B-44D8-BBF9-94479444A42B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457200" y="2671920"/>
            <a:ext cx="4040280" cy="2957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4645080" y="2671920"/>
            <a:ext cx="404172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Comparison at different lag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e are plotting mean squared differences between values compared at lags 1, 2, 3, …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 this example, we have monthly data, so are comparing values 1, 2, 3, … months apart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Many readers may be familiar with the same idea for calculating autocorrelation and cross-correla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variogram – like the raw data plot – hints at a structure of trend plus seasonality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5C24-8CA5-4CD5-B099-0486C2D9AB8F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Variograms of residuals, not data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Here, as elsewhere, it is a good idea to work with residuals, rather than the original data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ime series modellers could have a happy time arguing which model was best for the airline data, but we just use a Poisson regression on time and look at its residual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On the versatility and virtuosity of Poisson regression, check out Gould, William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Georgia"/>
                <a:hlinkClick r:id="rId1"/>
              </a:rPr>
              <a:t>http://blog.stata.com/2011/08/22/use-poisson-rather-than-regress-tell-a-friend/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EC84-F557-49A3-A373-A035591AFB3A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Sometimes, structure is this simpl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Poisson regress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Residuals from Poiss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32E0-C49D-4F4B-BEE6-5BC0B41CD0C1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457200" y="2671920"/>
            <a:ext cx="4040280" cy="2957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4645080" y="2671920"/>
            <a:ext cx="404172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Irregular serie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rregular series are series in which non-missing values are not all equally spaced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pecial case: Values would be equally spaced (every day, every year, …), but there are some gaps with missing values, for human or inhuman reasons.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General case: Values are just at known times or points with no necessary rules about spacing.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rregular series often seem to invite interpolation.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E295-766B-4B88-A564-19F4A0818E8B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A little more formally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9640" y="1557360"/>
            <a:ext cx="83534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semivariogram  </a:t>
            </a:r>
            <a:r>
              <a:rPr b="0" lang="el-GR" sz="2400" spc="-1" strike="noStrike">
                <a:solidFill>
                  <a:srgbClr val="000000"/>
                </a:solidFill>
                <a:latin typeface="Georgia"/>
              </a:rPr>
              <a:t>γ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)  for response 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 is given by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Georgia"/>
              </a:rPr>
              <a:t> γ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)  = 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{ [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) −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i + h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)]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eorgia"/>
              </a:rPr>
              <a:t>2 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here 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{} denotes averaging over pairs of values at lag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h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s emphasised, using a mean is a convention. The fuller picture (literally!) is a plot of [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) −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i + h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)]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eorgia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versus 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h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is is often known as a variogram clou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I borrow the notation </a:t>
            </a:r>
            <a:r>
              <a:rPr b="0" i="1" lang="en-GB" sz="16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() from Whittle, P. 1970. </a:t>
            </a:r>
            <a:r>
              <a:rPr b="0" i="1" lang="en-GB" sz="1600" spc="-1" strike="noStrike">
                <a:solidFill>
                  <a:srgbClr val="000000"/>
                </a:solidFill>
                <a:latin typeface="Georgia"/>
              </a:rPr>
              <a:t>Probability.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Harmondsworth: Penguin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5E1A-8B7E-4DFD-8E6B-C413B5EDEC3F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Where does the 2 come from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units of the semivariogram are those of the response squared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dding the variance to the graph as a reference line underlines the connec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 non-standard formula for the variance is, for any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(1/2)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 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{ (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z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Georgia"/>
              </a:rPr>
              <a:t>i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− z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Georgia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eorgia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} 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05B9-B672-4909-A4BD-DD7C6277DB5B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4648320" y="2386080"/>
            <a:ext cx="403848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Back to </a:t>
            </a:r>
            <a:r>
              <a:rPr b="0" lang="en-GB" sz="4000" spc="-1" strike="noStrike">
                <a:solidFill>
                  <a:srgbClr val="000000"/>
                </a:solidFill>
                <a:latin typeface="Lucida Console"/>
              </a:rPr>
              <a:t>vgram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vgram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(not yet public) is already quite general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e take possibilities one by on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ith just one argument, the response, it checks for a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tsse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xtse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time variable and uses it to define separations if found.  Note that panel data are supported for fre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ith just one argument otherwise, the order of the observations is taken to define position in time or spac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59F8-345A-4605-B479-20A0A2357E90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ith two arguments, the second variable is taken to define position. A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width()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option is required to specify the width of bins within which differences squared are averaged.  Equal and unequal spacing can thus both be accommodated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ith three arguments, the second and third  variables are taken to define position. A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width()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option is required to specify the width of bins within which differences squared are averaged.  Distance is calculated from coordinates using Pythagoras’ theorem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F149-0181-4CDE-9CA1-5D341A90A482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Why not just use autocorrelation?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Variograms are defined for a wider class of processes. Autocorrelation functions require weak stationarity; variograms are defined for processes with stationary increment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Variograms are more flexible in the face of irregular spacing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very wide use of autocorrelation reflects custom and familiarity as well as intrinsic merit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899F-98E3-4129-991F-09E47BAC9AF6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A further exampl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e look at rainfalls for 8 May 1986 (a single day) for 467 stations in Switzerland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AFAF-C61B-4492-99EE-2B1C22F1FFCB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E647-66DD-4138-B9C7-39601649B694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76755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6BA7-EE63-4D8C-B8C1-8F64E1FAB905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6755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How much information 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Optionally the semivariogram results can be saved in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vgram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to new variable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Keeping track of the number of pairs used at each lag is important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Here we exploit the feature that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pikeplot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an show frequencies on a square root scal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ADFA-DD6F-454E-A515-2D141FAE3B2A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EDA9-B869-4DA2-8015-2D9004D6941A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6737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Luke Howar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(1772 – 1864)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" name="Content Placeholder 7" descr=""/>
          <p:cNvPicPr/>
          <p:nvPr/>
        </p:nvPicPr>
        <p:blipFill>
          <a:blip r:embed="rId1"/>
          <a:stretch/>
        </p:blipFill>
        <p:spPr>
          <a:xfrm>
            <a:off x="4427640" y="981000"/>
            <a:ext cx="3689280" cy="4535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Best remembered for his nomenclature for cloud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(cumulus, stratus, cirrus and so forth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Here we use as sandbox some of his temperature data from Plaistow, near London, in 1807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A97D-FA24-4EAA-902D-10B285FE2A59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To do lis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variogram cloud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robust estimato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more flexible binn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pherical distances to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direction as well as lag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model fitting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(valid functional forms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use for interpola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(and smoothing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(kriging, Gaussian process regression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FEBC-30BA-4F13-9888-D4473CDCB583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Variogram virtue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Defined for time and spatial serie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Defined for regular and irregular serie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an help identify and check for structur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even if you have no interest in their most mentioned use, as a means towards the end of spatial interpola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6270-C3B5-40A6-B930-458CCAEA25FF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This paper…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is paper fills a much needed gap in the literatur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ee Jackson, A. 1997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hinese acrobatics, an old-time brewery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nd the “much needed gap”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life of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Mathematical Review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Notices of the American Mathematical Society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44: 330–337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4AC0-1C1B-402C-8A01-E4899D411742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Acknowledgment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Historical portraits: Wikipedia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MATLAB code for pchip: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Moler, C. 2004.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Numerical Computing with MATLAB. 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Philadelphia: SIAM. Chapter 3.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Georgia"/>
                <a:hlinkClick r:id="rId1"/>
              </a:rPr>
              <a:t>http://www.mathworks.com/moler/interp.pdf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Swiss rainfall data can be found here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http://www.ai-geostats.org/pub/AI_GEOSTATS/AI_GEOSTATSData/sic97data_01.zi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C9C7-6964-48C3-8FAE-8F23C456D261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Leo Breiman (1928–2005)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main thing to learn about statistics is what is sensible and honest and possibl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Doubt and suspicion, as well as technical knowledge, are indispensable tools in statistic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1973.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Statistics: With a view towards applications.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Boston: Houghton Mifflin, pp.1, 18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CA6A-BEC7-4913-8FD6-1C126FB6846B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Howard, Luke. 1818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The Climate of London, Deduced from Meteorological Observations, Made at Different Places in the Neighbourhood of the Metropolis.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Volume I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London: W. Phillips, etc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82EA-0725-4DD9-9013-EE607162DC28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85C6-5041-4649-8A24-582D512CC8F4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6737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Series of event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N.B. We are not talking here about series of events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or realisations of point processe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 such series occurrences are typically irregularly spaced, but the gaps are inherent in the process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not a failing of our data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Examples range from eruptions to election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DB1A-0489-4F98-B709-A20BB26D9805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7675560" cy="5616720"/>
          </a:xfrm>
          <a:prstGeom prst="rect">
            <a:avLst/>
          </a:prstGeom>
          <a:ln w="0">
            <a:noFill/>
          </a:ln>
        </p:spPr>
      </p:pic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C8FB-DC86-4C7E-8785-378CD1057129}" type="slidenum">
              <a:rPr b="0" lang="en-GB" sz="1200" spc="-1" strike="noStrike">
                <a:solidFill>
                  <a:srgbClr val="89898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0T07:28:38Z</dcterms:created>
  <dc:creator>David Corbett</dc:creator>
  <dc:description/>
  <dc:language>en-US</dc:language>
  <cp:lastModifiedBy>David Corbett</cp:lastModifiedBy>
  <dcterms:modified xsi:type="dcterms:W3CDTF">2015-09-10T07:28:50Z</dcterms:modified>
  <cp:revision>1</cp:revision>
  <dc:subject/>
  <dc:title>   Between  and  beyond:  Irregular  series,  interpolation, variograms,  and  smoothing     </dc:title>
</cp:coreProperties>
</file>